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80E0-7103-4367-B51A-D0725EE1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77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74640" y="3695760"/>
            <a:ext cx="77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3156-F3D7-4E74-8B0D-74ABA0C1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732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4640" y="369576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7320" y="369576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A8E-85AB-4E2F-8DE3-DE8FB40F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02640" y="117468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30280" y="117468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74640" y="369576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02640" y="369576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30280" y="369576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0C15-347A-4CAE-BE09-235D7DB6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E175-4DD6-405D-93E6-556907A1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74640" y="117468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42FB-3A99-4C57-996D-D898DC27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3B56-673A-40F1-A756-D90DCC9D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3792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7320" y="1174680"/>
            <a:ext cx="3792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DE58-96C7-4821-A315-C3FBB9A3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4BB0-D80B-4821-8BD9-DA691014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62040" y="216000"/>
            <a:ext cx="77724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7B95-EB92-4DF2-87FD-0B13065D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7320" y="1174680"/>
            <a:ext cx="3792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4640" y="369576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353C-BAA5-418B-9FBF-D442BA46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74640" y="117468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D63-A736-41DA-9F06-D4AAD505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3792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732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7320" y="369576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FDDF-23C5-413F-A2D7-6A8F3F18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732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74640" y="3695760"/>
            <a:ext cx="77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9916-E987-4D24-8762-1BA87687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77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4640" y="3695760"/>
            <a:ext cx="77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6218-0A45-4AF8-82CD-1DCC3139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732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74640" y="369576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7320" y="369576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29A1-9CB3-4256-AC95-BC7F955B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02640" y="117468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30280" y="117468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74640" y="369576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02640" y="369576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30280" y="3695760"/>
            <a:ext cx="2502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6CE9-9CC7-4E8F-929E-8EEAD8B6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910-21ED-4020-A58E-22927401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3792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7320" y="1174680"/>
            <a:ext cx="3792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4872-EDEE-4D66-8B0D-45BC47A4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F25C-A4B7-4C36-B230-BF8FBE1D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62040" y="216000"/>
            <a:ext cx="77724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7B3-8282-4ABE-B33B-D5E4D5D3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7320" y="1174680"/>
            <a:ext cx="3792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4640" y="369576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C230-CAEE-45B5-9F35-4F26EA17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3792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732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7320" y="369576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DA4-9384-496E-A50B-76FCC812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2040" y="199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174680"/>
            <a:ext cx="3792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4640" y="3695760"/>
            <a:ext cx="77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B94-82B1-43E9-8AF0-3DC2E6F5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1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74640" y="117468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4" marL="2057400" indent="-22860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5" marL="2057400" indent="-22860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6" marL="2057400" indent="-22860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833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54547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545472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25280" y="6367320"/>
            <a:ext cx="360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545472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545472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025760" y="6367320"/>
            <a:ext cx="14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4547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ahoma"/>
              </a:rPr>
              <a:t>Chapter 5 - </a:t>
            </a:r>
            <a:fld id="{475445C5-DE26-4F8D-BC88-61C4C3EE0868}" type="slidenum">
              <a:rPr b="0" lang="en-US" sz="1000" spc="-1" strike="noStrike">
                <a:solidFill>
                  <a:srgbClr val="545472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882720"/>
            <a:ext cx="9169560" cy="137520"/>
            <a:chOff x="0" y="882720"/>
            <a:chExt cx="9169560" cy="137520"/>
          </a:xfrm>
        </p:grpSpPr>
        <p:sp>
          <p:nvSpPr>
            <p:cNvPr id="10" name=""/>
            <p:cNvSpPr/>
            <p:nvPr/>
          </p:nvSpPr>
          <p:spPr>
            <a:xfrm>
              <a:off x="6415200" y="906120"/>
              <a:ext cx="2754360" cy="11412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1760" y="891720"/>
              <a:ext cx="4214520" cy="9504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882720"/>
              <a:ext cx="3240000" cy="9792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12600" y="317520"/>
            <a:ext cx="9156600" cy="757080"/>
            <a:chOff x="-12600" y="317520"/>
            <a:chExt cx="9156600" cy="757080"/>
          </a:xfrm>
        </p:grpSpPr>
        <p:sp>
          <p:nvSpPr>
            <p:cNvPr id="50" name=""/>
            <p:cNvSpPr/>
            <p:nvPr/>
          </p:nvSpPr>
          <p:spPr>
            <a:xfrm>
              <a:off x="-4680" y="317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12600" y="473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320" y="317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5480" y="744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8840" y="317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2120" y="317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86000" y="376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28880" y="317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71880" y="561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78400" y="455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81640" y="698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10280" y="831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11920" y="912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84960" y="741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70720" y="409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8840" y="547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30840" y="806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05400" y="779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20040" y="614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31120" y="612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874280" y="812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429760" y="698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73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640" y="35856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54547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545472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2743200" y="6348240"/>
            <a:ext cx="37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54547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54547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4547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Arial"/>
              </a:rPr>
              <a:t>Chapter 5 - </a:t>
            </a:r>
            <a:fld id="{F8963AA9-2E69-462E-83FC-D00F3D23DD7A}" type="slidenum">
              <a:rPr b="0" lang="en-US" sz="10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1031760"/>
            <a:ext cx="9169560" cy="138240"/>
            <a:chOff x="0" y="1031760"/>
            <a:chExt cx="9169560" cy="138240"/>
          </a:xfrm>
        </p:grpSpPr>
        <p:sp>
          <p:nvSpPr>
            <p:cNvPr id="81" name=""/>
            <p:cNvSpPr/>
            <p:nvPr/>
          </p:nvSpPr>
          <p:spPr>
            <a:xfrm>
              <a:off x="6415200" y="105552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1760" y="104112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103176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5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9595ff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7640" y="35856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upplementary Chapter 3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88920" y="2577600"/>
            <a:ext cx="7601040" cy="21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75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45472"/>
                </a:solidFill>
                <a:latin typeface="Tahoma"/>
              </a:rPr>
              <a:t>Linked List</a:t>
            </a: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6342-A75A-4D09-BA33-3BD3A40E606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lgorithm for addToHea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579600" y="1212840"/>
            <a:ext cx="77724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218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all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isEmpty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to determine if the list is empty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68400" indent="-68400"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218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f the list is empty, both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head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tail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re set to th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ListNode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llocated with new and initialized with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item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.  Th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ListNode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constructor sets instance variabl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to refer to th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item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passed as an argument and sets th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next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reference to null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68400" indent="-68400"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218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f the list is not empty, the new node is added into the list by setting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head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to th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ListNode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object that was allocated with new and initialized with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item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head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.  When th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ListNode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constructor executes, it sets instance variabl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to refer to th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item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passed as an argument which performs the insertion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EEDA-D6F5-4A72-A29A-ED66AAD1C00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ddToHea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public void </a:t>
            </a: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addToHead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(Object item)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if (isEmpty()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head = tail = new ListNode(item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head = new ListNode(item, head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42A-5ED6-4121-A894-5B04A77048F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lgorithm for addToTail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74640" y="4603320"/>
            <a:ext cx="77724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What happens if the list is empty?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Just set both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head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tail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to reference to the new node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23960" y="1676520"/>
            <a:ext cx="7137000" cy="2305080"/>
            <a:chOff x="723960" y="1676520"/>
            <a:chExt cx="7137000" cy="2305080"/>
          </a:xfrm>
        </p:grpSpPr>
        <p:grpSp>
          <p:nvGrpSpPr>
            <p:cNvPr id="218" name=""/>
            <p:cNvGrpSpPr/>
            <p:nvPr/>
          </p:nvGrpSpPr>
          <p:grpSpPr>
            <a:xfrm>
              <a:off x="723960" y="1676520"/>
              <a:ext cx="965160" cy="914400"/>
              <a:chOff x="723960" y="1676520"/>
              <a:chExt cx="965160" cy="914400"/>
            </a:xfrm>
          </p:grpSpPr>
          <p:sp>
            <p:nvSpPr>
              <p:cNvPr id="219" name=""/>
              <p:cNvSpPr/>
              <p:nvPr/>
            </p:nvSpPr>
            <p:spPr>
              <a:xfrm>
                <a:off x="877680" y="167652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head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23960" y="2095560"/>
                <a:ext cx="965160" cy="49536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723960" y="3448080"/>
              <a:ext cx="1926720" cy="533520"/>
              <a:chOff x="723960" y="3448080"/>
              <a:chExt cx="1926720" cy="533520"/>
            </a:xfrm>
          </p:grpSpPr>
          <p:sp>
            <p:nvSpPr>
              <p:cNvPr id="222" name=""/>
              <p:cNvSpPr/>
              <p:nvPr/>
            </p:nvSpPr>
            <p:spPr>
              <a:xfrm flipV="1">
                <a:off x="1171440" y="3448080"/>
                <a:ext cx="9000" cy="533520"/>
              </a:xfrm>
              <a:prstGeom prst="line">
                <a:avLst/>
              </a:prstGeom>
              <a:ln w="25560">
                <a:solidFill>
                  <a:srgbClr val="545472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5880" y="3467160"/>
                <a:ext cx="964800" cy="49536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23960" y="3467160"/>
                <a:ext cx="964800" cy="495360"/>
              </a:xfrm>
              <a:prstGeom prst="rect">
                <a:avLst/>
              </a:prstGeom>
              <a:solidFill>
                <a:srgbClr val="fdfee2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925200" y="34956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42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2124000" y="3695760"/>
              <a:ext cx="1200240" cy="936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09600" y="2371680"/>
              <a:ext cx="1800" cy="107640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3333600" y="3409920"/>
              <a:ext cx="1927080" cy="533520"/>
              <a:chOff x="3333600" y="3409920"/>
              <a:chExt cx="1927080" cy="533520"/>
            </a:xfrm>
          </p:grpSpPr>
          <p:sp>
            <p:nvSpPr>
              <p:cNvPr id="229" name=""/>
              <p:cNvSpPr/>
              <p:nvPr/>
            </p:nvSpPr>
            <p:spPr>
              <a:xfrm flipV="1">
                <a:off x="3781080" y="3409920"/>
                <a:ext cx="9720" cy="533520"/>
              </a:xfrm>
              <a:prstGeom prst="line">
                <a:avLst/>
              </a:prstGeom>
              <a:ln w="25560">
                <a:solidFill>
                  <a:srgbClr val="545472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295520" y="3429000"/>
                <a:ext cx="965160" cy="49536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333600" y="3429000"/>
                <a:ext cx="965160" cy="495360"/>
              </a:xfrm>
              <a:prstGeom prst="rect">
                <a:avLst/>
              </a:prstGeom>
              <a:solidFill>
                <a:srgbClr val="fdfee2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611520" y="3457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 flipV="1">
              <a:off x="4734000" y="3657600"/>
              <a:ext cx="1200240" cy="936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5885280" y="3390840"/>
              <a:ext cx="1975680" cy="533520"/>
              <a:chOff x="5885280" y="3390840"/>
              <a:chExt cx="1975680" cy="533520"/>
            </a:xfrm>
          </p:grpSpPr>
          <p:sp>
            <p:nvSpPr>
              <p:cNvPr id="235" name=""/>
              <p:cNvSpPr/>
              <p:nvPr/>
            </p:nvSpPr>
            <p:spPr>
              <a:xfrm flipV="1">
                <a:off x="6381720" y="3390840"/>
                <a:ext cx="9360" cy="533520"/>
              </a:xfrm>
              <a:prstGeom prst="line">
                <a:avLst/>
              </a:prstGeom>
              <a:ln w="25560">
                <a:solidFill>
                  <a:srgbClr val="545472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895800" y="3409920"/>
                <a:ext cx="965160" cy="49536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933880" y="3409920"/>
                <a:ext cx="965160" cy="495360"/>
              </a:xfrm>
              <a:prstGeom prst="rect">
                <a:avLst/>
              </a:prstGeom>
              <a:solidFill>
                <a:srgbClr val="fdfee2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885280" y="3438360"/>
                <a:ext cx="104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"hello"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905520" y="3419280"/>
                <a:ext cx="904680" cy="457200"/>
              </a:xfrm>
              <a:prstGeom prst="line">
                <a:avLst/>
              </a:prstGeom>
              <a:ln w="255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3981240" y="167652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ai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28960" y="2095560"/>
              <a:ext cx="965160" cy="495360"/>
            </a:xfrm>
            <a:prstGeom prst="rect">
              <a:avLst/>
            </a:prstGeom>
            <a:solidFill>
              <a:srgbClr val="def6f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14960" y="2333520"/>
              <a:ext cx="2057400" cy="107640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319640" y="1962000"/>
            <a:ext cx="1863360" cy="1162080"/>
            <a:chOff x="4319640" y="1962000"/>
            <a:chExt cx="1863360" cy="1162080"/>
          </a:xfrm>
        </p:grpSpPr>
        <p:sp>
          <p:nvSpPr>
            <p:cNvPr id="244" name=""/>
            <p:cNvSpPr/>
            <p:nvPr/>
          </p:nvSpPr>
          <p:spPr>
            <a:xfrm>
              <a:off x="5131080" y="196200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d0701"/>
                  </a:solidFill>
                  <a:latin typeface="Wingdings 2"/>
                  <a:ea typeface="Wingdings 2"/>
                </a:rPr>
                <a:t>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319640" y="2311920"/>
              <a:ext cx="1863360" cy="900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90400" y="254268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d0701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579600" y="1212840"/>
            <a:ext cx="77724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dd an item 23.1 to the end of the linked list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726240" y="2514600"/>
            <a:ext cx="1146240" cy="1390680"/>
            <a:chOff x="6726240" y="2514600"/>
            <a:chExt cx="1146240" cy="1390680"/>
          </a:xfrm>
        </p:grpSpPr>
        <p:sp>
          <p:nvSpPr>
            <p:cNvPr id="249" name=""/>
            <p:cNvSpPr/>
            <p:nvPr/>
          </p:nvSpPr>
          <p:spPr>
            <a:xfrm>
              <a:off x="6959520" y="2719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d0701"/>
                  </a:solidFill>
                  <a:latin typeface="Wingdings 2"/>
                  <a:ea typeface="Wingdings 2"/>
                </a:rPr>
                <a:t>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00840" y="3409920"/>
              <a:ext cx="971640" cy="495360"/>
            </a:xfrm>
            <a:prstGeom prst="rect">
              <a:avLst/>
            </a:prstGeom>
            <a:solidFill>
              <a:srgbClr val="def6f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6726240" y="2514600"/>
              <a:ext cx="665280" cy="111456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172200" y="2019240"/>
            <a:ext cx="1926720" cy="533520"/>
            <a:chOff x="6172200" y="2019240"/>
            <a:chExt cx="1926720" cy="533520"/>
          </a:xfrm>
        </p:grpSpPr>
        <p:grpSp>
          <p:nvGrpSpPr>
            <p:cNvPr id="253" name=""/>
            <p:cNvGrpSpPr/>
            <p:nvPr/>
          </p:nvGrpSpPr>
          <p:grpSpPr>
            <a:xfrm>
              <a:off x="6172200" y="2019240"/>
              <a:ext cx="1926720" cy="533520"/>
              <a:chOff x="6172200" y="2019240"/>
              <a:chExt cx="1926720" cy="533520"/>
            </a:xfrm>
          </p:grpSpPr>
          <p:sp>
            <p:nvSpPr>
              <p:cNvPr id="254" name=""/>
              <p:cNvSpPr/>
              <p:nvPr/>
            </p:nvSpPr>
            <p:spPr>
              <a:xfrm flipV="1">
                <a:off x="6619680" y="2019240"/>
                <a:ext cx="9000" cy="533520"/>
              </a:xfrm>
              <a:prstGeom prst="line">
                <a:avLst/>
              </a:prstGeom>
              <a:ln w="25560">
                <a:solidFill>
                  <a:srgbClr val="545472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134120" y="2038320"/>
                <a:ext cx="964800" cy="49536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72200" y="2038320"/>
                <a:ext cx="964800" cy="495360"/>
              </a:xfrm>
              <a:prstGeom prst="rect">
                <a:avLst/>
              </a:prstGeom>
              <a:solidFill>
                <a:srgbClr val="fdfee2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373440" y="206676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23.1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7153200" y="2066760"/>
              <a:ext cx="914400" cy="43848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D48-F935-4D3A-8D3E-317A2973A8A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lgorithm for addToTail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579600" y="1212840"/>
            <a:ext cx="77724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 marL="65160" indent="-65160"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218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all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isEmpty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to determine if the list is empty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65160" indent="-65160"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218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f the list is empty, both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head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tail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re set to th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ListNode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llocated with new and initialized with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item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.  Th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ListNode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constructor sets instance variabl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to refer to th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item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passed as an argument and sets th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next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reference to null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65160" indent="-65160"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218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f the list is not empty, the new node is added to the list by setting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tail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d to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tail.next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to th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ListNode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object that was allocated with new and initialized with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item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.  When th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ListNode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constructor executes, it sets instance variabl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to refer to th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item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passed as an argument and sets th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next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reference to </a:t>
            </a:r>
            <a:r>
              <a:rPr b="0" lang="en-US" sz="2400" spc="-1" strike="noStrike" u="sng">
                <a:solidFill>
                  <a:srgbClr val="545472"/>
                </a:solidFill>
                <a:uFillTx/>
                <a:latin typeface="Times New Roman"/>
              </a:rPr>
              <a:t>null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65160" indent="-65160"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0DB-3ECB-4AE8-A431-6B4B7AF1019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ddToTail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400320" y="1060200"/>
            <a:ext cx="90486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public void </a:t>
            </a: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addToTail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(Object item)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if (isEmpty()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head = tail = new ListNode(item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tail = tail.next = new ListNode(item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671C-600A-4CFE-8717-B01BF66D7D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lgorithm for removeFromHea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23960" y="1638360"/>
            <a:ext cx="7137000" cy="2343240"/>
            <a:chOff x="723960" y="1638360"/>
            <a:chExt cx="7137000" cy="2343240"/>
          </a:xfrm>
        </p:grpSpPr>
        <p:grpSp>
          <p:nvGrpSpPr>
            <p:cNvPr id="265" name=""/>
            <p:cNvGrpSpPr/>
            <p:nvPr/>
          </p:nvGrpSpPr>
          <p:grpSpPr>
            <a:xfrm>
              <a:off x="723960" y="1676520"/>
              <a:ext cx="965160" cy="914400"/>
              <a:chOff x="723960" y="1676520"/>
              <a:chExt cx="965160" cy="914400"/>
            </a:xfrm>
          </p:grpSpPr>
          <p:sp>
            <p:nvSpPr>
              <p:cNvPr id="266" name=""/>
              <p:cNvSpPr/>
              <p:nvPr/>
            </p:nvSpPr>
            <p:spPr>
              <a:xfrm>
                <a:off x="877680" y="167652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head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23960" y="2095560"/>
                <a:ext cx="965160" cy="49536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723960" y="3448080"/>
              <a:ext cx="1926720" cy="533520"/>
              <a:chOff x="723960" y="3448080"/>
              <a:chExt cx="1926720" cy="533520"/>
            </a:xfrm>
          </p:grpSpPr>
          <p:sp>
            <p:nvSpPr>
              <p:cNvPr id="269" name=""/>
              <p:cNvSpPr/>
              <p:nvPr/>
            </p:nvSpPr>
            <p:spPr>
              <a:xfrm flipV="1">
                <a:off x="1171440" y="3448080"/>
                <a:ext cx="9000" cy="533520"/>
              </a:xfrm>
              <a:prstGeom prst="line">
                <a:avLst/>
              </a:prstGeom>
              <a:ln w="25560">
                <a:solidFill>
                  <a:srgbClr val="545472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685880" y="3467160"/>
                <a:ext cx="964800" cy="49536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23960" y="3467160"/>
                <a:ext cx="964800" cy="495360"/>
              </a:xfrm>
              <a:prstGeom prst="rect">
                <a:avLst/>
              </a:prstGeom>
              <a:solidFill>
                <a:srgbClr val="fdfee2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25200" y="34956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42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 flipV="1">
              <a:off x="2124000" y="3695760"/>
              <a:ext cx="1200240" cy="936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09600" y="2371680"/>
              <a:ext cx="1800" cy="107640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333600" y="3409920"/>
              <a:ext cx="1927080" cy="533520"/>
              <a:chOff x="3333600" y="3409920"/>
              <a:chExt cx="1927080" cy="533520"/>
            </a:xfrm>
          </p:grpSpPr>
          <p:sp>
            <p:nvSpPr>
              <p:cNvPr id="276" name=""/>
              <p:cNvSpPr/>
              <p:nvPr/>
            </p:nvSpPr>
            <p:spPr>
              <a:xfrm flipV="1">
                <a:off x="3781080" y="3409920"/>
                <a:ext cx="9720" cy="533520"/>
              </a:xfrm>
              <a:prstGeom prst="line">
                <a:avLst/>
              </a:prstGeom>
              <a:ln w="25560">
                <a:solidFill>
                  <a:srgbClr val="545472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295520" y="3429000"/>
                <a:ext cx="965160" cy="49536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33600" y="3429000"/>
                <a:ext cx="965160" cy="495360"/>
              </a:xfrm>
              <a:prstGeom prst="rect">
                <a:avLst/>
              </a:prstGeom>
              <a:solidFill>
                <a:srgbClr val="fdfee2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611520" y="3457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flipV="1">
              <a:off x="4734000" y="3657600"/>
              <a:ext cx="1200240" cy="936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5885280" y="3390840"/>
              <a:ext cx="1975680" cy="533520"/>
              <a:chOff x="5885280" y="3390840"/>
              <a:chExt cx="1975680" cy="533520"/>
            </a:xfrm>
          </p:grpSpPr>
          <p:sp>
            <p:nvSpPr>
              <p:cNvPr id="282" name=""/>
              <p:cNvSpPr/>
              <p:nvPr/>
            </p:nvSpPr>
            <p:spPr>
              <a:xfrm flipV="1">
                <a:off x="6381720" y="3390840"/>
                <a:ext cx="9360" cy="533520"/>
              </a:xfrm>
              <a:prstGeom prst="line">
                <a:avLst/>
              </a:prstGeom>
              <a:ln w="25560">
                <a:solidFill>
                  <a:srgbClr val="545472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895800" y="3409920"/>
                <a:ext cx="965160" cy="49536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933880" y="3409920"/>
                <a:ext cx="965160" cy="495360"/>
              </a:xfrm>
              <a:prstGeom prst="rect">
                <a:avLst/>
              </a:prstGeom>
              <a:solidFill>
                <a:srgbClr val="fdfee2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885280" y="3438360"/>
                <a:ext cx="104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"hello"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905520" y="3419280"/>
                <a:ext cx="904680" cy="457200"/>
              </a:xfrm>
              <a:prstGeom prst="line">
                <a:avLst/>
              </a:prstGeom>
              <a:ln w="255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5924520" y="1638360"/>
              <a:ext cx="965160" cy="1771560"/>
              <a:chOff x="5924520" y="1638360"/>
              <a:chExt cx="965160" cy="1771560"/>
            </a:xfrm>
          </p:grpSpPr>
          <p:sp>
            <p:nvSpPr>
              <p:cNvPr id="288" name=""/>
              <p:cNvSpPr/>
              <p:nvPr/>
            </p:nvSpPr>
            <p:spPr>
              <a:xfrm>
                <a:off x="6076440" y="1638360"/>
                <a:ext cx="57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tail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924520" y="2057400"/>
                <a:ext cx="965160" cy="49536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10160" y="2295360"/>
                <a:ext cx="0" cy="1114560"/>
              </a:xfrm>
              <a:prstGeom prst="line">
                <a:avLst/>
              </a:prstGeom>
              <a:ln w="25560">
                <a:solidFill>
                  <a:srgbClr val="545472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" name=""/>
          <p:cNvGrpSpPr/>
          <p:nvPr/>
        </p:nvGrpSpPr>
        <p:grpSpPr>
          <a:xfrm>
            <a:off x="981000" y="2390760"/>
            <a:ext cx="2363760" cy="1247760"/>
            <a:chOff x="981000" y="2390760"/>
            <a:chExt cx="2363760" cy="1247760"/>
          </a:xfrm>
        </p:grpSpPr>
        <p:sp>
          <p:nvSpPr>
            <p:cNvPr id="292" name=""/>
            <p:cNvSpPr/>
            <p:nvPr/>
          </p:nvSpPr>
          <p:spPr>
            <a:xfrm>
              <a:off x="1247760" y="2390760"/>
              <a:ext cx="2097000" cy="124776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40120" y="25527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d0701"/>
                  </a:solidFill>
                  <a:latin typeface="Wingdings 2"/>
                  <a:ea typeface="Wingdings 2"/>
                </a:rPr>
                <a:t>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81000" y="263844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d0701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79600" y="1212840"/>
            <a:ext cx="77724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move the first item 42 from the linked list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4640" y="424188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What happens if the list is empty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27080" y="4667400"/>
            <a:ext cx="38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-  Error! Throw an Exception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9000" y="5586480"/>
            <a:ext cx="506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ＭＳ Ｐゴシック"/>
              </a:rPr>
              <a:t>-  Just set both 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ＭＳ Ｐゴシック"/>
              </a:rPr>
              <a:t>head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ＭＳ Ｐゴシック"/>
              </a:rPr>
              <a:t> and 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ＭＳ Ｐゴシック"/>
              </a:rPr>
              <a:t>tail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ＭＳ Ｐゴシック"/>
              </a:rPr>
              <a:t> to null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4640" y="5232240"/>
            <a:ext cx="7772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What happens if the list has one node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20C-BAE7-42E4-A379-AABF33E39F4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lgorithm for removeFromHea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" y="1212840"/>
            <a:ext cx="77724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marL="51120" indent="-51120"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218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ssign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item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to refer to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head.data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51120" indent="-51120"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218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12121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head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is equal to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tail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, i.e., if the list has only one element prior to the removal attempt, then set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head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tail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to null to delete that node from the list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51120" indent="-51120"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218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12121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f the list has more than one node prior to removal, then leav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tail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s is and simply set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head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head.next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, i.e., modify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head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to reference what was the second node prior to removal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51120" indent="-51120"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218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121218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Return th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item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reference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9E38-519C-4D13-8DAA-034A465C9C5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removeFromHea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174680"/>
            <a:ext cx="83246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public Object </a:t>
            </a: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removeFromHead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() throws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EmptyListException {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Object item = null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if (isEmpty()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throw new EmptyListException(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item = head.data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if (head.equals(tail)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head = tail = null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head = head.next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return item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926-5120-4818-A659-7ADEFD726D9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lgorithm for removeFromTail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81200" y="1276200"/>
            <a:ext cx="7137000" cy="2343240"/>
            <a:chOff x="781200" y="1276200"/>
            <a:chExt cx="7137000" cy="2343240"/>
          </a:xfrm>
        </p:grpSpPr>
        <p:grpSp>
          <p:nvGrpSpPr>
            <p:cNvPr id="306" name=""/>
            <p:cNvGrpSpPr/>
            <p:nvPr/>
          </p:nvGrpSpPr>
          <p:grpSpPr>
            <a:xfrm>
              <a:off x="781200" y="1314360"/>
              <a:ext cx="965160" cy="914400"/>
              <a:chOff x="781200" y="1314360"/>
              <a:chExt cx="965160" cy="914400"/>
            </a:xfrm>
          </p:grpSpPr>
          <p:sp>
            <p:nvSpPr>
              <p:cNvPr id="307" name=""/>
              <p:cNvSpPr/>
              <p:nvPr/>
            </p:nvSpPr>
            <p:spPr>
              <a:xfrm>
                <a:off x="934920" y="131436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head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81200" y="1733400"/>
                <a:ext cx="965160" cy="49536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781200" y="3085920"/>
              <a:ext cx="1926720" cy="533520"/>
              <a:chOff x="781200" y="3085920"/>
              <a:chExt cx="1926720" cy="533520"/>
            </a:xfrm>
          </p:grpSpPr>
          <p:sp>
            <p:nvSpPr>
              <p:cNvPr id="310" name=""/>
              <p:cNvSpPr/>
              <p:nvPr/>
            </p:nvSpPr>
            <p:spPr>
              <a:xfrm flipV="1">
                <a:off x="1228680" y="3085920"/>
                <a:ext cx="9000" cy="533520"/>
              </a:xfrm>
              <a:prstGeom prst="line">
                <a:avLst/>
              </a:prstGeom>
              <a:ln w="25560">
                <a:solidFill>
                  <a:srgbClr val="545472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743120" y="3105000"/>
                <a:ext cx="964800" cy="49536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81200" y="3105000"/>
                <a:ext cx="964800" cy="495360"/>
              </a:xfrm>
              <a:prstGeom prst="rect">
                <a:avLst/>
              </a:prstGeom>
              <a:solidFill>
                <a:srgbClr val="fdfee2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982440" y="313344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42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 flipV="1">
              <a:off x="2181240" y="3333600"/>
              <a:ext cx="1200240" cy="936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66840" y="2009520"/>
              <a:ext cx="1800" cy="107640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390840" y="3047760"/>
              <a:ext cx="1927080" cy="533520"/>
              <a:chOff x="3390840" y="3047760"/>
              <a:chExt cx="1927080" cy="53352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3838320" y="3047760"/>
                <a:ext cx="9720" cy="533520"/>
              </a:xfrm>
              <a:prstGeom prst="line">
                <a:avLst/>
              </a:prstGeom>
              <a:ln w="25560">
                <a:solidFill>
                  <a:srgbClr val="545472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352760" y="3066840"/>
                <a:ext cx="965160" cy="49536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390840" y="3066840"/>
                <a:ext cx="965160" cy="495360"/>
              </a:xfrm>
              <a:prstGeom prst="rect">
                <a:avLst/>
              </a:prstGeom>
              <a:solidFill>
                <a:srgbClr val="fdfee2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68760" y="3095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4791240" y="3295440"/>
              <a:ext cx="1200240" cy="936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5942520" y="3028680"/>
              <a:ext cx="1975680" cy="533520"/>
              <a:chOff x="5942520" y="3028680"/>
              <a:chExt cx="1975680" cy="53352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6438960" y="3028680"/>
                <a:ext cx="9360" cy="533520"/>
              </a:xfrm>
              <a:prstGeom prst="line">
                <a:avLst/>
              </a:prstGeom>
              <a:ln w="25560">
                <a:solidFill>
                  <a:srgbClr val="545472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953040" y="3047760"/>
                <a:ext cx="965160" cy="49536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991120" y="3047760"/>
                <a:ext cx="965160" cy="495360"/>
              </a:xfrm>
              <a:prstGeom prst="rect">
                <a:avLst/>
              </a:prstGeom>
              <a:solidFill>
                <a:srgbClr val="fdfee2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942520" y="3076200"/>
                <a:ext cx="104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"hello"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962760" y="3057120"/>
                <a:ext cx="904680" cy="457200"/>
              </a:xfrm>
              <a:prstGeom prst="line">
                <a:avLst/>
              </a:prstGeom>
              <a:ln w="255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5981760" y="1276200"/>
              <a:ext cx="965160" cy="1771560"/>
              <a:chOff x="5981760" y="1276200"/>
              <a:chExt cx="965160" cy="1771560"/>
            </a:xfrm>
          </p:grpSpPr>
          <p:sp>
            <p:nvSpPr>
              <p:cNvPr id="329" name=""/>
              <p:cNvSpPr/>
              <p:nvPr/>
            </p:nvSpPr>
            <p:spPr>
              <a:xfrm>
                <a:off x="6133680" y="1276200"/>
                <a:ext cx="57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tail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981760" y="1695240"/>
                <a:ext cx="965160" cy="49536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467400" y="1933200"/>
                <a:ext cx="0" cy="1114560"/>
              </a:xfrm>
              <a:prstGeom prst="line">
                <a:avLst/>
              </a:prstGeom>
              <a:ln w="25560">
                <a:solidFill>
                  <a:srgbClr val="545472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598320" y="1041480"/>
            <a:ext cx="77724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move the last item "hello" from the linked list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1880" y="3727440"/>
            <a:ext cx="7772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What happens if the list is empty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83960" y="4000680"/>
            <a:ext cx="38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-  Error! Throw an Exception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691160"/>
            <a:ext cx="50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ＭＳ Ｐゴシック"/>
              </a:rPr>
              <a:t>-  Just set both 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ＭＳ Ｐゴシック"/>
              </a:rPr>
              <a:t>head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ＭＳ Ｐゴシック"/>
              </a:rPr>
              <a:t> and 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ＭＳ Ｐゴシック"/>
              </a:rPr>
              <a:t>tail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ＭＳ Ｐゴシック"/>
              </a:rPr>
              <a:t> to null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3720" y="4432320"/>
            <a:ext cx="7772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What happens if the list has one node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190600" y="2114640"/>
            <a:ext cx="1795320" cy="1228680"/>
            <a:chOff x="2190600" y="2114640"/>
            <a:chExt cx="1795320" cy="1228680"/>
          </a:xfrm>
        </p:grpSpPr>
        <p:sp>
          <p:nvSpPr>
            <p:cNvPr id="338" name=""/>
            <p:cNvSpPr/>
            <p:nvPr/>
          </p:nvSpPr>
          <p:spPr>
            <a:xfrm>
              <a:off x="2611080" y="24861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d0701"/>
                  </a:solidFill>
                  <a:latin typeface="Wingdings 2"/>
                  <a:ea typeface="Wingdings 2"/>
                </a:rPr>
                <a:t>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90600" y="3343320"/>
              <a:ext cx="1190520" cy="0"/>
            </a:xfrm>
            <a:prstGeom prst="line">
              <a:avLst/>
            </a:prstGeom>
            <a:ln w="25560">
              <a:solidFill>
                <a:srgbClr val="fd0701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2914560" y="2457720"/>
              <a:ext cx="209520" cy="752400"/>
            </a:xfrm>
            <a:prstGeom prst="line">
              <a:avLst/>
            </a:prstGeom>
            <a:ln w="1584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02000" y="2114640"/>
              <a:ext cx="148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0701"/>
                  </a:solidFill>
                  <a:latin typeface="Times New Roman"/>
                </a:rPr>
                <a:t>find this link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897360" y="1914480"/>
            <a:ext cx="2826000" cy="1152360"/>
            <a:chOff x="3897360" y="1914480"/>
            <a:chExt cx="2826000" cy="1152360"/>
          </a:xfrm>
        </p:grpSpPr>
        <p:sp>
          <p:nvSpPr>
            <p:cNvPr id="343" name=""/>
            <p:cNvSpPr/>
            <p:nvPr/>
          </p:nvSpPr>
          <p:spPr>
            <a:xfrm flipH="1">
              <a:off x="3897360" y="1914480"/>
              <a:ext cx="2589120" cy="115236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19720" y="216180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d0701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27160" y="211428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d0701"/>
                  </a:solidFill>
                  <a:latin typeface="Wingdings 2"/>
                  <a:ea typeface="Wingdings 2"/>
                </a:rPr>
                <a:t>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4329000" y="2986200"/>
            <a:ext cx="985320" cy="575640"/>
            <a:chOff x="4329000" y="2986200"/>
            <a:chExt cx="985320" cy="575640"/>
          </a:xfrm>
        </p:grpSpPr>
        <p:grpSp>
          <p:nvGrpSpPr>
            <p:cNvPr id="347" name=""/>
            <p:cNvGrpSpPr/>
            <p:nvPr/>
          </p:nvGrpSpPr>
          <p:grpSpPr>
            <a:xfrm>
              <a:off x="4329000" y="3062160"/>
              <a:ext cx="975960" cy="499680"/>
              <a:chOff x="4329000" y="3062160"/>
              <a:chExt cx="975960" cy="499680"/>
            </a:xfrm>
          </p:grpSpPr>
          <p:sp>
            <p:nvSpPr>
              <p:cNvPr id="348" name=""/>
              <p:cNvSpPr/>
              <p:nvPr/>
            </p:nvSpPr>
            <p:spPr>
              <a:xfrm>
                <a:off x="4329000" y="3062160"/>
                <a:ext cx="975960" cy="49968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329000" y="3066480"/>
                <a:ext cx="971280" cy="48528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4856400" y="298620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d0701"/>
                  </a:solidFill>
                  <a:latin typeface="Wingdings"/>
                  <a:ea typeface="Wingdings"/>
                </a:rPr>
                <a:t>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74640" y="5175360"/>
            <a:ext cx="7772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ow to get the second last link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19520" y="5448240"/>
            <a:ext cx="73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- Use a loop to traverse the list and locate the node having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next == tai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E5E-AE56-436B-8653-1E8E9E4500A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lgorithm for removeFromTail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579600" y="1212840"/>
            <a:ext cx="77724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1000"/>
          </a:bodyPr>
          <a:p>
            <a:pPr marL="37440" indent="-37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12121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ssign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item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to refer to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tail.data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7440" indent="-37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head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is equal to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tail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, i.e., if the list has only one element prior to the removal attempt, then set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head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tail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to null to de-thread that node from the list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7440" indent="-37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f the list has more than one node prior to removal, then create th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listNode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referenc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current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d initialize it to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head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7440" indent="-37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Now traverse the list with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current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until it references the node before the last nod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7440" indent="-37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opy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current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tail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to de-thread the last node from the list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7440" indent="-37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et th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current.next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to null in the new last node of the list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7440" indent="-37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Return the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item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reference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061-252B-4C18-83C0-A608CE60F9D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efinition of Lis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2800" y="1301760"/>
            <a:ext cx="8089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 list of elements of type T is a finite sequence of elements of T together with the operation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0">
              <a:lnSpc>
                <a:spcPct val="55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Initialize the list to be empty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0">
              <a:lnSpc>
                <a:spcPct val="55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Determine whether the list is empty or not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0">
              <a:lnSpc>
                <a:spcPct val="55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Determine whether the list is full or not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0">
              <a:lnSpc>
                <a:spcPct val="55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nd the length of the list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0">
              <a:lnSpc>
                <a:spcPct val="55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5.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Retrieve any node from the list, if it is not empty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6.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tore a new node replacing the node at any position in the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list, if it is not empty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0">
              <a:lnSpc>
                <a:spcPct val="55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7.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Insert a new node into the list at any position, if it is not full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0">
              <a:lnSpc>
                <a:spcPct val="55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8.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Delete any node from the list, if it is not empty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 rot="5400000">
            <a:off x="8784720" y="6032520"/>
            <a:ext cx="142920" cy="13644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0">
            <a:noFill/>
          </a:ln>
          <a:effectLst>
            <a:outerShdw dist="153753" dir="2700000" blurRad="0" rotWithShape="0">
              <a:srgbClr val="5454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F489-93DD-449F-AEEE-553E9B74440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removeFromTail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43080" y="793440"/>
            <a:ext cx="8324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public Object </a:t>
            </a:r>
            <a:r>
              <a:rPr b="1" i="1" lang="en-US" sz="2200" spc="-1" strike="noStrike">
                <a:solidFill>
                  <a:srgbClr val="545472"/>
                </a:solidFill>
                <a:latin typeface="Courier New"/>
              </a:rPr>
              <a:t>removeFromTail</a:t>
            </a: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() throws EmptyListException {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Object item = null;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if (isEmpty())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throw new EmptyListException();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item = tail.data;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if (head.equals(tail))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head = tail = null;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ListNode current = head;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while (current.next != tail)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tail = current;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current.next = null;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return item;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F7F-2928-4BD8-B3EC-C49F4D11BAB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Print a Lis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43080" y="793440"/>
            <a:ext cx="8324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public void </a:t>
            </a: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System.out.print("[ "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ListNode current = head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while (current != null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System.out.print(current.data + " "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current = current.next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System.out.print("]"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F2F-EBE2-4F5C-98F9-A6FAD625F38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 Test Program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736200"/>
            <a:ext cx="93916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class 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LTest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public static void </a:t>
            </a:r>
            <a:r>
              <a:rPr b="1" i="1" lang="en-US" sz="2000" spc="-1" strike="noStrike">
                <a:solidFill>
                  <a:srgbClr val="545472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(String args[]) {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LinkedList s = new LinkedList(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s.print(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System.out.println (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s.addToTail (new Integer(42)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s.print(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System.out.println (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s.addToTail (new Character('n')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s.print(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System.out.println (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s.addToTail (new String("hello")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s.print(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System.out.println (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while (!s.isEmpty()) {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System.out.println("removed:"+s.removeFromHead()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s.print(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System.out.println (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BBD-93C7-4DD6-9A0C-82B92810BBD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ample Ru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[ 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[ 42 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[ 42 n 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[ 42 n hello 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moved: 42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[ n hello 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moved: 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[ hello 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moved: hello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[  ]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73D5-F32C-4D2F-BB27-ED64D5B9F52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dvanced Insert Metho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598320" y="1041480"/>
            <a:ext cx="77724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>
              <a:lnSpc>
                <a:spcPct val="9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uppose we have a sorted list of Person Objects in ascending order of Name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349200" indent="-1342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ow can we remove a Person who's name is "Jacky"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14440" y="2305080"/>
            <a:ext cx="7919640" cy="2282040"/>
            <a:chOff x="514440" y="2305080"/>
            <a:chExt cx="7919640" cy="2282040"/>
          </a:xfrm>
        </p:grpSpPr>
        <p:grpSp>
          <p:nvGrpSpPr>
            <p:cNvPr id="366" name=""/>
            <p:cNvGrpSpPr/>
            <p:nvPr/>
          </p:nvGrpSpPr>
          <p:grpSpPr>
            <a:xfrm>
              <a:off x="914400" y="2400120"/>
              <a:ext cx="965160" cy="780840"/>
              <a:chOff x="914400" y="2400120"/>
              <a:chExt cx="965160" cy="780840"/>
            </a:xfrm>
          </p:grpSpPr>
          <p:sp>
            <p:nvSpPr>
              <p:cNvPr id="367" name=""/>
              <p:cNvSpPr/>
              <p:nvPr/>
            </p:nvSpPr>
            <p:spPr>
              <a:xfrm>
                <a:off x="1068120" y="240012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head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914400" y="2757960"/>
                <a:ext cx="965160" cy="42300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514440" y="4057560"/>
              <a:ext cx="1823760" cy="529560"/>
              <a:chOff x="514440" y="4057560"/>
              <a:chExt cx="1823760" cy="52956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542880" y="4057560"/>
                <a:ext cx="1689120" cy="495000"/>
                <a:chOff x="542880" y="4057560"/>
                <a:chExt cx="1689120" cy="49500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895400" y="4057560"/>
                  <a:ext cx="336600" cy="495000"/>
                </a:xfrm>
                <a:prstGeom prst="rect">
                  <a:avLst/>
                </a:prstGeom>
                <a:solidFill>
                  <a:srgbClr val="def6fe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42880" y="4057560"/>
                  <a:ext cx="1355760" cy="495000"/>
                </a:xfrm>
                <a:prstGeom prst="rect">
                  <a:avLst/>
                </a:prstGeom>
                <a:solidFill>
                  <a:srgbClr val="fdfee2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" name=""/>
              <p:cNvSpPr/>
              <p:nvPr/>
            </p:nvSpPr>
            <p:spPr>
              <a:xfrm>
                <a:off x="514440" y="4066920"/>
                <a:ext cx="1823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45472"/>
                    </a:solidFill>
                    <a:latin typeface="Times New Roman"/>
                  </a:rPr>
                  <a:t>Name : Aaron</a:t>
                </a:r>
                <a:endParaRPr b="0" lang="en-US" sz="1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45472"/>
                    </a:solidFill>
                    <a:latin typeface="Times New Roman"/>
                  </a:rPr>
                  <a:t>Age : 35 </a:t>
                </a:r>
                <a:endParaRPr b="0" lang="en-US" sz="1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 flipV="1">
              <a:off x="2104920" y="4309560"/>
              <a:ext cx="457200" cy="324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382760" y="2962080"/>
              <a:ext cx="17280" cy="105732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6953040" y="2305080"/>
              <a:ext cx="965160" cy="1771560"/>
              <a:chOff x="6953040" y="2305080"/>
              <a:chExt cx="965160" cy="1771560"/>
            </a:xfrm>
          </p:grpSpPr>
          <p:sp>
            <p:nvSpPr>
              <p:cNvPr id="377" name=""/>
              <p:cNvSpPr/>
              <p:nvPr/>
            </p:nvSpPr>
            <p:spPr>
              <a:xfrm>
                <a:off x="7104960" y="2305080"/>
                <a:ext cx="57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tail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953040" y="2724120"/>
                <a:ext cx="965160" cy="49536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438680" y="2962080"/>
                <a:ext cx="0" cy="1114560"/>
              </a:xfrm>
              <a:prstGeom prst="line">
                <a:avLst/>
              </a:prstGeom>
              <a:ln w="25560">
                <a:solidFill>
                  <a:srgbClr val="545472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2533680" y="4057560"/>
              <a:ext cx="1823760" cy="529560"/>
              <a:chOff x="2533680" y="4057560"/>
              <a:chExt cx="1823760" cy="52956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2562120" y="4057560"/>
                <a:ext cx="1689120" cy="495000"/>
                <a:chOff x="2562120" y="4057560"/>
                <a:chExt cx="1689120" cy="4950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3914640" y="4057560"/>
                  <a:ext cx="336600" cy="495000"/>
                </a:xfrm>
                <a:prstGeom prst="rect">
                  <a:avLst/>
                </a:prstGeom>
                <a:solidFill>
                  <a:srgbClr val="def6fe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562120" y="4057560"/>
                  <a:ext cx="1355760" cy="495000"/>
                </a:xfrm>
                <a:prstGeom prst="rect">
                  <a:avLst/>
                </a:prstGeom>
                <a:solidFill>
                  <a:srgbClr val="fdfee2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4" name=""/>
              <p:cNvSpPr/>
              <p:nvPr/>
            </p:nvSpPr>
            <p:spPr>
              <a:xfrm>
                <a:off x="2533680" y="4066920"/>
                <a:ext cx="1823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45472"/>
                    </a:solidFill>
                    <a:latin typeface="Times New Roman"/>
                  </a:rPr>
                  <a:t>Name : Andy </a:t>
                </a:r>
                <a:endParaRPr b="0" lang="en-US" sz="1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45472"/>
                    </a:solidFill>
                    <a:latin typeface="Times New Roman"/>
                  </a:rPr>
                  <a:t>Age : 39 </a:t>
                </a:r>
                <a:endParaRPr b="0" lang="en-US" sz="1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 flipV="1">
              <a:off x="4143240" y="4290480"/>
              <a:ext cx="457200" cy="324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4572000" y="4038480"/>
              <a:ext cx="1823760" cy="529560"/>
              <a:chOff x="4572000" y="4038480"/>
              <a:chExt cx="1823760" cy="52956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4600440" y="4038480"/>
                <a:ext cx="1689120" cy="495000"/>
                <a:chOff x="4600440" y="4038480"/>
                <a:chExt cx="1689120" cy="4950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5952960" y="4038480"/>
                  <a:ext cx="336600" cy="495000"/>
                </a:xfrm>
                <a:prstGeom prst="rect">
                  <a:avLst/>
                </a:prstGeom>
                <a:solidFill>
                  <a:srgbClr val="def6fe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600440" y="4038480"/>
                  <a:ext cx="1355760" cy="495000"/>
                </a:xfrm>
                <a:prstGeom prst="rect">
                  <a:avLst/>
                </a:prstGeom>
                <a:solidFill>
                  <a:srgbClr val="fdfee2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4572000" y="4047840"/>
                <a:ext cx="1823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45472"/>
                    </a:solidFill>
                    <a:latin typeface="Times New Roman"/>
                  </a:rPr>
                  <a:t>Name : Jacky </a:t>
                </a:r>
                <a:endParaRPr b="0" lang="en-US" sz="1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45472"/>
                    </a:solidFill>
                    <a:latin typeface="Times New Roman"/>
                  </a:rPr>
                  <a:t>Age : 40 </a:t>
                </a:r>
                <a:endParaRPr b="0" lang="en-US" sz="1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 flipV="1">
              <a:off x="6200640" y="4290480"/>
              <a:ext cx="457200" cy="324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6610320" y="4038480"/>
              <a:ext cx="1823760" cy="529560"/>
              <a:chOff x="6610320" y="4038480"/>
              <a:chExt cx="1823760" cy="52956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6638760" y="4038480"/>
                <a:ext cx="1689120" cy="495000"/>
                <a:chOff x="6638760" y="4038480"/>
                <a:chExt cx="1689120" cy="4950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7991280" y="4038480"/>
                  <a:ext cx="336600" cy="495000"/>
                </a:xfrm>
                <a:prstGeom prst="rect">
                  <a:avLst/>
                </a:prstGeom>
                <a:solidFill>
                  <a:srgbClr val="def6fe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638760" y="4038480"/>
                  <a:ext cx="1355760" cy="495000"/>
                </a:xfrm>
                <a:prstGeom prst="rect">
                  <a:avLst/>
                </a:prstGeom>
                <a:solidFill>
                  <a:srgbClr val="fdfee2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6610320" y="4047840"/>
                <a:ext cx="1823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45472"/>
                    </a:solidFill>
                    <a:latin typeface="Times New Roman"/>
                  </a:rPr>
                  <a:t>Name : Leon </a:t>
                </a:r>
                <a:endParaRPr b="0" lang="en-US" sz="1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45472"/>
                    </a:solidFill>
                    <a:latin typeface="Times New Roman"/>
                  </a:rPr>
                  <a:t>Age : 37 </a:t>
                </a:r>
                <a:endParaRPr b="0" lang="en-US" sz="1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7" name=""/>
          <p:cNvGrpSpPr/>
          <p:nvPr/>
        </p:nvGrpSpPr>
        <p:grpSpPr>
          <a:xfrm>
            <a:off x="2362320" y="2644920"/>
            <a:ext cx="2099880" cy="1600200"/>
            <a:chOff x="2362320" y="2644920"/>
            <a:chExt cx="2099880" cy="1600200"/>
          </a:xfrm>
        </p:grpSpPr>
        <p:sp>
          <p:nvSpPr>
            <p:cNvPr id="398" name=""/>
            <p:cNvSpPr/>
            <p:nvPr/>
          </p:nvSpPr>
          <p:spPr>
            <a:xfrm>
              <a:off x="3290760" y="26449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d0701"/>
                  </a:solidFill>
                  <a:latin typeface="Wingdings 2"/>
                  <a:ea typeface="Wingdings 2"/>
                </a:rPr>
                <a:t>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32000" y="3378600"/>
              <a:ext cx="323640" cy="841320"/>
            </a:xfrm>
            <a:prstGeom prst="line">
              <a:avLst/>
            </a:prstGeom>
            <a:ln w="28440">
              <a:solidFill>
                <a:srgbClr val="1e0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24120" y="2934000"/>
              <a:ext cx="17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0701"/>
                  </a:solidFill>
                  <a:latin typeface="Times New Roman"/>
                </a:rPr>
                <a:t>find these links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362320" y="3378600"/>
              <a:ext cx="653760" cy="866520"/>
            </a:xfrm>
            <a:prstGeom prst="line">
              <a:avLst/>
            </a:prstGeom>
            <a:ln w="28440">
              <a:solidFill>
                <a:srgbClr val="1e0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111560" y="3933720"/>
            <a:ext cx="2526120" cy="1123200"/>
            <a:chOff x="4111560" y="3933720"/>
            <a:chExt cx="2526120" cy="1123200"/>
          </a:xfrm>
        </p:grpSpPr>
        <p:sp>
          <p:nvSpPr>
            <p:cNvPr id="403" name=""/>
            <p:cNvSpPr/>
            <p:nvPr/>
          </p:nvSpPr>
          <p:spPr>
            <a:xfrm>
              <a:off x="4111560" y="39337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d0701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87320" y="459720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d0701"/>
                  </a:solidFill>
                  <a:latin typeface="Wingdings 2"/>
                  <a:ea typeface="Wingdings 2"/>
                </a:rPr>
                <a:t>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46480" y="4330440"/>
              <a:ext cx="2476440" cy="620640"/>
            </a:xfrm>
            <a:custGeom>
              <a:avLst/>
              <a:gdLst/>
              <a:ahLst/>
              <a:rect l="l" t="t" r="r" b="b"/>
              <a:pathLst>
                <a:path w="1568" h="439">
                  <a:moveTo>
                    <a:pt x="0" y="0"/>
                  </a:moveTo>
                  <a:cubicBezTo>
                    <a:pt x="48" y="60"/>
                    <a:pt x="151" y="288"/>
                    <a:pt x="288" y="360"/>
                  </a:cubicBezTo>
                  <a:cubicBezTo>
                    <a:pt x="425" y="432"/>
                    <a:pt x="659" y="439"/>
                    <a:pt x="824" y="432"/>
                  </a:cubicBezTo>
                  <a:cubicBezTo>
                    <a:pt x="989" y="425"/>
                    <a:pt x="1156" y="388"/>
                    <a:pt x="1280" y="320"/>
                  </a:cubicBezTo>
                  <a:cubicBezTo>
                    <a:pt x="1404" y="252"/>
                    <a:pt x="1508" y="86"/>
                    <a:pt x="1568" y="24"/>
                  </a:cubicBezTo>
                </a:path>
              </a:pathLst>
            </a:custGeom>
            <a:noFill/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750960" y="5099040"/>
            <a:ext cx="77724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eed to use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tw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references to traverse the list - one for the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current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node and the other for the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previous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de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991640" y="4038480"/>
            <a:ext cx="333360" cy="486000"/>
          </a:xfrm>
          <a:prstGeom prst="line">
            <a:avLst/>
          </a:prstGeom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FF6-0866-4297-AA2C-FEA5E331E0F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dvanced Remove Metho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598320" y="1041480"/>
            <a:ext cx="77724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ow can we add a Person who's name is "Eason"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514440" y="1467000"/>
            <a:ext cx="7919640" cy="2282040"/>
            <a:chOff x="514440" y="1467000"/>
            <a:chExt cx="7919640" cy="2282040"/>
          </a:xfrm>
        </p:grpSpPr>
        <p:grpSp>
          <p:nvGrpSpPr>
            <p:cNvPr id="411" name=""/>
            <p:cNvGrpSpPr/>
            <p:nvPr/>
          </p:nvGrpSpPr>
          <p:grpSpPr>
            <a:xfrm>
              <a:off x="914400" y="1562040"/>
              <a:ext cx="965160" cy="780840"/>
              <a:chOff x="914400" y="1562040"/>
              <a:chExt cx="965160" cy="780840"/>
            </a:xfrm>
          </p:grpSpPr>
          <p:sp>
            <p:nvSpPr>
              <p:cNvPr id="412" name=""/>
              <p:cNvSpPr/>
              <p:nvPr/>
            </p:nvSpPr>
            <p:spPr>
              <a:xfrm>
                <a:off x="1068120" y="156204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head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14400" y="1919880"/>
                <a:ext cx="965160" cy="42300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514440" y="3219480"/>
              <a:ext cx="1823760" cy="529560"/>
              <a:chOff x="514440" y="3219480"/>
              <a:chExt cx="1823760" cy="52956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542880" y="3219480"/>
                <a:ext cx="1689120" cy="495000"/>
                <a:chOff x="542880" y="3219480"/>
                <a:chExt cx="1689120" cy="4950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895400" y="3219480"/>
                  <a:ext cx="336600" cy="495000"/>
                </a:xfrm>
                <a:prstGeom prst="rect">
                  <a:avLst/>
                </a:prstGeom>
                <a:solidFill>
                  <a:srgbClr val="def6fe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42880" y="3219480"/>
                  <a:ext cx="1355760" cy="495000"/>
                </a:xfrm>
                <a:prstGeom prst="rect">
                  <a:avLst/>
                </a:prstGeom>
                <a:solidFill>
                  <a:srgbClr val="fdfee2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514440" y="3228840"/>
                <a:ext cx="1823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45472"/>
                    </a:solidFill>
                    <a:latin typeface="Times New Roman"/>
                  </a:rPr>
                  <a:t>Name : Aaron</a:t>
                </a:r>
                <a:endParaRPr b="0" lang="en-US" sz="1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45472"/>
                    </a:solidFill>
                    <a:latin typeface="Times New Roman"/>
                  </a:rPr>
                  <a:t>Age : 35 </a:t>
                </a:r>
                <a:endParaRPr b="0" lang="en-US" sz="1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 flipV="1">
              <a:off x="2104920" y="3471480"/>
              <a:ext cx="457200" cy="324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1382760" y="2124000"/>
              <a:ext cx="17280" cy="105732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953040" y="1467000"/>
              <a:ext cx="965160" cy="1771560"/>
              <a:chOff x="6953040" y="1467000"/>
              <a:chExt cx="965160" cy="1771560"/>
            </a:xfrm>
          </p:grpSpPr>
          <p:sp>
            <p:nvSpPr>
              <p:cNvPr id="422" name=""/>
              <p:cNvSpPr/>
              <p:nvPr/>
            </p:nvSpPr>
            <p:spPr>
              <a:xfrm>
                <a:off x="7104960" y="1467000"/>
                <a:ext cx="57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tail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953040" y="1886040"/>
                <a:ext cx="965160" cy="49536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38680" y="2124000"/>
                <a:ext cx="0" cy="1114560"/>
              </a:xfrm>
              <a:prstGeom prst="line">
                <a:avLst/>
              </a:prstGeom>
              <a:ln w="25560">
                <a:solidFill>
                  <a:srgbClr val="545472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2533680" y="3219480"/>
              <a:ext cx="1823760" cy="529560"/>
              <a:chOff x="2533680" y="3219480"/>
              <a:chExt cx="1823760" cy="52956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2562120" y="3219480"/>
                <a:ext cx="1689120" cy="495000"/>
                <a:chOff x="2562120" y="3219480"/>
                <a:chExt cx="1689120" cy="49500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914640" y="3219480"/>
                  <a:ext cx="336600" cy="495000"/>
                </a:xfrm>
                <a:prstGeom prst="rect">
                  <a:avLst/>
                </a:prstGeom>
                <a:solidFill>
                  <a:srgbClr val="def6fe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562120" y="3219480"/>
                  <a:ext cx="1355760" cy="495000"/>
                </a:xfrm>
                <a:prstGeom prst="rect">
                  <a:avLst/>
                </a:prstGeom>
                <a:solidFill>
                  <a:srgbClr val="fdfee2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>
                <a:off x="2533680" y="3228840"/>
                <a:ext cx="1823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45472"/>
                    </a:solidFill>
                    <a:latin typeface="Times New Roman"/>
                  </a:rPr>
                  <a:t>Name : Andy </a:t>
                </a:r>
                <a:endParaRPr b="0" lang="en-US" sz="1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45472"/>
                    </a:solidFill>
                    <a:latin typeface="Times New Roman"/>
                  </a:rPr>
                  <a:t>Age : 39 </a:t>
                </a:r>
                <a:endParaRPr b="0" lang="en-US" sz="1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 flipV="1">
              <a:off x="4143240" y="3452400"/>
              <a:ext cx="457200" cy="324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4572000" y="3200400"/>
              <a:ext cx="1823760" cy="529560"/>
              <a:chOff x="4572000" y="3200400"/>
              <a:chExt cx="1823760" cy="52956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4600440" y="3200400"/>
                <a:ext cx="1689120" cy="495000"/>
                <a:chOff x="4600440" y="3200400"/>
                <a:chExt cx="1689120" cy="4950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5952960" y="3200400"/>
                  <a:ext cx="336600" cy="495000"/>
                </a:xfrm>
                <a:prstGeom prst="rect">
                  <a:avLst/>
                </a:prstGeom>
                <a:solidFill>
                  <a:srgbClr val="def6fe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600440" y="3200400"/>
                  <a:ext cx="1355760" cy="495000"/>
                </a:xfrm>
                <a:prstGeom prst="rect">
                  <a:avLst/>
                </a:prstGeom>
                <a:solidFill>
                  <a:srgbClr val="fdfee2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4572000" y="3209760"/>
                <a:ext cx="1823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45472"/>
                    </a:solidFill>
                    <a:latin typeface="Times New Roman"/>
                  </a:rPr>
                  <a:t>Name : Jacky </a:t>
                </a:r>
                <a:endParaRPr b="0" lang="en-US" sz="1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45472"/>
                    </a:solidFill>
                    <a:latin typeface="Times New Roman"/>
                  </a:rPr>
                  <a:t>Age : 40 </a:t>
                </a:r>
                <a:endParaRPr b="0" lang="en-US" sz="1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 flipV="1">
              <a:off x="6200640" y="3452400"/>
              <a:ext cx="457200" cy="324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6610320" y="3200400"/>
              <a:ext cx="1823760" cy="529560"/>
              <a:chOff x="6610320" y="3200400"/>
              <a:chExt cx="1823760" cy="52956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6638760" y="3200400"/>
                <a:ext cx="1689120" cy="495000"/>
                <a:chOff x="6638760" y="3200400"/>
                <a:chExt cx="1689120" cy="4950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7991280" y="3200400"/>
                  <a:ext cx="336600" cy="495000"/>
                </a:xfrm>
                <a:prstGeom prst="rect">
                  <a:avLst/>
                </a:prstGeom>
                <a:solidFill>
                  <a:srgbClr val="def6fe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638760" y="3200400"/>
                  <a:ext cx="1355760" cy="495000"/>
                </a:xfrm>
                <a:prstGeom prst="rect">
                  <a:avLst/>
                </a:prstGeom>
                <a:solidFill>
                  <a:srgbClr val="fdfee2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6610320" y="3209760"/>
                <a:ext cx="1823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45472"/>
                    </a:solidFill>
                    <a:latin typeface="Times New Roman"/>
                  </a:rPr>
                  <a:t>Name : Leon </a:t>
                </a:r>
                <a:endParaRPr b="0" lang="en-US" sz="1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45472"/>
                    </a:solidFill>
                    <a:latin typeface="Times New Roman"/>
                  </a:rPr>
                  <a:t>Age : 37 </a:t>
                </a:r>
                <a:endParaRPr b="0" lang="en-US" sz="1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2361960" y="1806480"/>
            <a:ext cx="2296800" cy="1600200"/>
            <a:chOff x="2361960" y="1806480"/>
            <a:chExt cx="2296800" cy="1600200"/>
          </a:xfrm>
        </p:grpSpPr>
        <p:sp>
          <p:nvSpPr>
            <p:cNvPr id="443" name=""/>
            <p:cNvSpPr/>
            <p:nvPr/>
          </p:nvSpPr>
          <p:spPr>
            <a:xfrm>
              <a:off x="3291120" y="18064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d0701"/>
                  </a:solidFill>
                  <a:latin typeface="Wingdings 2"/>
                  <a:ea typeface="Wingdings 2"/>
                </a:rPr>
                <a:t>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32360" y="2540160"/>
              <a:ext cx="324000" cy="841320"/>
            </a:xfrm>
            <a:prstGeom prst="line">
              <a:avLst/>
            </a:prstGeom>
            <a:ln w="28440">
              <a:solidFill>
                <a:srgbClr val="1e0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25560" y="2095560"/>
              <a:ext cx="193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0701"/>
                  </a:solidFill>
                  <a:latin typeface="Times New Roman"/>
                </a:rPr>
                <a:t>locate these links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361960" y="2540160"/>
              <a:ext cx="654120" cy="866520"/>
            </a:xfrm>
            <a:prstGeom prst="line">
              <a:avLst/>
            </a:prstGeom>
            <a:ln w="28440">
              <a:solidFill>
                <a:srgbClr val="1e0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750960" y="5099040"/>
            <a:ext cx="77724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e order of steps 2 and 3 is important. If we reverse their order the sublist beginning from "Jacky" will be lost forever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409920" y="4381560"/>
            <a:ext cx="1823760" cy="529560"/>
            <a:chOff x="3409920" y="4381560"/>
            <a:chExt cx="1823760" cy="529560"/>
          </a:xfrm>
        </p:grpSpPr>
        <p:grpSp>
          <p:nvGrpSpPr>
            <p:cNvPr id="449" name=""/>
            <p:cNvGrpSpPr/>
            <p:nvPr/>
          </p:nvGrpSpPr>
          <p:grpSpPr>
            <a:xfrm>
              <a:off x="3438360" y="4381560"/>
              <a:ext cx="1689120" cy="495000"/>
              <a:chOff x="3438360" y="4381560"/>
              <a:chExt cx="1689120" cy="495000"/>
            </a:xfrm>
          </p:grpSpPr>
          <p:sp>
            <p:nvSpPr>
              <p:cNvPr id="450" name=""/>
              <p:cNvSpPr/>
              <p:nvPr/>
            </p:nvSpPr>
            <p:spPr>
              <a:xfrm>
                <a:off x="4790880" y="4381560"/>
                <a:ext cx="336600" cy="49500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38360" y="4381560"/>
                <a:ext cx="1355760" cy="495000"/>
              </a:xfrm>
              <a:prstGeom prst="rect">
                <a:avLst/>
              </a:prstGeom>
              <a:solidFill>
                <a:srgbClr val="fdfee2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3409920" y="4390920"/>
              <a:ext cx="1823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5472"/>
                  </a:solidFill>
                  <a:latin typeface="Times New Roman"/>
                </a:rPr>
                <a:t>Name : Eason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5472"/>
                  </a:solidFill>
                  <a:latin typeface="Times New Roman"/>
                </a:rPr>
                <a:t>Age : 37 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4381560" y="3562200"/>
            <a:ext cx="691920" cy="1067040"/>
            <a:chOff x="4381560" y="3562200"/>
            <a:chExt cx="691920" cy="1067040"/>
          </a:xfrm>
        </p:grpSpPr>
        <p:sp>
          <p:nvSpPr>
            <p:cNvPr id="454" name=""/>
            <p:cNvSpPr/>
            <p:nvPr/>
          </p:nvSpPr>
          <p:spPr>
            <a:xfrm>
              <a:off x="4453920" y="372096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d0701"/>
                  </a:solidFill>
                  <a:latin typeface="Wingdings 2"/>
                  <a:ea typeface="Wingdings 2"/>
                </a:rPr>
                <a:t>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381560" y="3562200"/>
              <a:ext cx="691920" cy="1067040"/>
            </a:xfrm>
            <a:custGeom>
              <a:avLst/>
              <a:gdLst/>
              <a:ahLst/>
              <a:rect l="l" t="t" r="r" b="b"/>
              <a:pathLst>
                <a:path w="436" h="672">
                  <a:moveTo>
                    <a:pt x="384" y="672"/>
                  </a:moveTo>
                  <a:cubicBezTo>
                    <a:pt x="421" y="562"/>
                    <a:pt x="436" y="444"/>
                    <a:pt x="384" y="384"/>
                  </a:cubicBezTo>
                  <a:cubicBezTo>
                    <a:pt x="332" y="324"/>
                    <a:pt x="134" y="354"/>
                    <a:pt x="72" y="312"/>
                  </a:cubicBezTo>
                  <a:cubicBezTo>
                    <a:pt x="10" y="270"/>
                    <a:pt x="0" y="184"/>
                    <a:pt x="12" y="132"/>
                  </a:cubicBezTo>
                  <a:cubicBezTo>
                    <a:pt x="24" y="80"/>
                    <a:pt x="117" y="27"/>
                    <a:pt x="144" y="0"/>
                  </a:cubicBezTo>
                </a:path>
              </a:pathLst>
            </a:custGeom>
            <a:noFill/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103920" y="3133800"/>
            <a:ext cx="1473120" cy="1476360"/>
            <a:chOff x="3103920" y="3133800"/>
            <a:chExt cx="1473120" cy="1476360"/>
          </a:xfrm>
        </p:grpSpPr>
        <p:sp>
          <p:nvSpPr>
            <p:cNvPr id="457" name=""/>
            <p:cNvSpPr/>
            <p:nvPr/>
          </p:nvSpPr>
          <p:spPr>
            <a:xfrm>
              <a:off x="4073400" y="313380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d0701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95720" y="3467160"/>
              <a:ext cx="925560" cy="1143000"/>
            </a:xfrm>
            <a:custGeom>
              <a:avLst/>
              <a:gdLst/>
              <a:ahLst/>
              <a:rect l="l" t="t" r="r" b="b"/>
              <a:pathLst>
                <a:path w="583" h="720">
                  <a:moveTo>
                    <a:pt x="583" y="0"/>
                  </a:moveTo>
                  <a:cubicBezTo>
                    <a:pt x="562" y="34"/>
                    <a:pt x="512" y="145"/>
                    <a:pt x="459" y="201"/>
                  </a:cubicBezTo>
                  <a:cubicBezTo>
                    <a:pt x="406" y="257"/>
                    <a:pt x="340" y="275"/>
                    <a:pt x="267" y="335"/>
                  </a:cubicBezTo>
                  <a:cubicBezTo>
                    <a:pt x="194" y="395"/>
                    <a:pt x="42" y="497"/>
                    <a:pt x="21" y="561"/>
                  </a:cubicBezTo>
                  <a:cubicBezTo>
                    <a:pt x="0" y="625"/>
                    <a:pt x="116" y="687"/>
                    <a:pt x="141" y="720"/>
                  </a:cubicBezTo>
                </a:path>
              </a:pathLst>
            </a:custGeom>
            <a:noFill/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03920" y="380988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d0701"/>
                  </a:solidFill>
                  <a:latin typeface="Wingdings"/>
                  <a:ea typeface="Wingdings"/>
                </a:rPr>
                <a:t>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7991640" y="3209760"/>
            <a:ext cx="333360" cy="486000"/>
          </a:xfrm>
          <a:prstGeom prst="line">
            <a:avLst/>
          </a:prstGeom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681D-F76D-4F0E-A881-5A692E35532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Other Common List Operation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598320" y="1041480"/>
            <a:ext cx="788688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1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nt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count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) - return the number of elements in the Linked List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19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bject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remov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int n) - remove the n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element in the Linked List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19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void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add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int n, Object item) - add the object item as the n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element in the Linked List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19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bject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get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int index) - return the element at the specified position in this list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19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ListIterator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listIterator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int index) - return a list-iterator of the elements in this list (in proper sequence), starting at the specified position in the list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19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85A-F0DA-4BC4-A6A8-2D494AA2715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6410160" y="3038400"/>
            <a:ext cx="2203560" cy="529560"/>
            <a:chOff x="6410160" y="3038400"/>
            <a:chExt cx="2203560" cy="529560"/>
          </a:xfrm>
        </p:grpSpPr>
        <p:sp>
          <p:nvSpPr>
            <p:cNvPr id="464" name=""/>
            <p:cNvSpPr/>
            <p:nvPr/>
          </p:nvSpPr>
          <p:spPr>
            <a:xfrm>
              <a:off x="8277120" y="3038400"/>
              <a:ext cx="336600" cy="495360"/>
            </a:xfrm>
            <a:prstGeom prst="rect">
              <a:avLst/>
            </a:prstGeom>
            <a:solidFill>
              <a:srgbClr val="def6f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77040" y="3038400"/>
              <a:ext cx="1003320" cy="495360"/>
            </a:xfrm>
            <a:prstGeom prst="rect">
              <a:avLst/>
            </a:prstGeom>
            <a:solidFill>
              <a:srgbClr val="fdfee2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05840" y="3047760"/>
              <a:ext cx="890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5472"/>
                  </a:solidFill>
                  <a:latin typeface="Times New Roman"/>
                </a:rPr>
                <a:t>Jacky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5472"/>
                  </a:solidFill>
                  <a:latin typeface="Times New Roman"/>
                </a:rPr>
                <a:t>41 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43680" y="3038400"/>
              <a:ext cx="336600" cy="495360"/>
            </a:xfrm>
            <a:prstGeom prst="rect">
              <a:avLst/>
            </a:prstGeom>
            <a:solidFill>
              <a:srgbClr val="def6f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6410160" y="3233160"/>
              <a:ext cx="552600" cy="324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6600600" y="3408120"/>
              <a:ext cx="476280" cy="648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841320" y="3079800"/>
            <a:ext cx="1670040" cy="529920"/>
            <a:chOff x="841320" y="3079800"/>
            <a:chExt cx="1670040" cy="529920"/>
          </a:xfrm>
        </p:grpSpPr>
        <p:sp>
          <p:nvSpPr>
            <p:cNvPr id="471" name=""/>
            <p:cNvSpPr/>
            <p:nvPr/>
          </p:nvSpPr>
          <p:spPr>
            <a:xfrm>
              <a:off x="2174760" y="3079800"/>
              <a:ext cx="336600" cy="495360"/>
            </a:xfrm>
            <a:prstGeom prst="rect">
              <a:avLst/>
            </a:prstGeom>
            <a:solidFill>
              <a:srgbClr val="def6f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74680" y="3079800"/>
              <a:ext cx="1003320" cy="495360"/>
            </a:xfrm>
            <a:prstGeom prst="rect">
              <a:avLst/>
            </a:prstGeom>
            <a:solidFill>
              <a:srgbClr val="fdfee2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203120" y="3089520"/>
              <a:ext cx="89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5472"/>
                  </a:solidFill>
                  <a:latin typeface="Times New Roman"/>
                </a:rPr>
                <a:t>Aaron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5472"/>
                  </a:solidFill>
                  <a:latin typeface="Times New Roman"/>
                </a:rPr>
                <a:t>35 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41320" y="3079800"/>
              <a:ext cx="336600" cy="495360"/>
            </a:xfrm>
            <a:prstGeom prst="rect">
              <a:avLst/>
            </a:prstGeom>
            <a:solidFill>
              <a:srgbClr val="def6f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41320" y="3079800"/>
              <a:ext cx="323640" cy="49536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oubly Linked Lis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598320" y="104148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G Times (W1)"/>
              </a:rPr>
              <a:t>Sometimes it is convenient to traverse lists backward.  For this, add an extra reference to the node that stores a link to the previous node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98320" y="3765600"/>
            <a:ext cx="777240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G Times (W1)"/>
              </a:rPr>
              <a:t>The cost of this extra link is an increase in the space requirement and a doubling of the cost of insertions and deletions because there are more links to fix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G Times (W1)"/>
              </a:rPr>
              <a:t>On the other hand, it simplifies insertion and deletion, because you no longer have to refer to an item by using a reference to the previous node; this information is now at hand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308960" y="1936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he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93760" y="2300400"/>
            <a:ext cx="965160" cy="284040"/>
          </a:xfrm>
          <a:prstGeom prst="rect">
            <a:avLst/>
          </a:prstGeom>
          <a:solidFill>
            <a:srgbClr val="def6fe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60680" y="2413080"/>
            <a:ext cx="1440" cy="628560"/>
          </a:xfrm>
          <a:prstGeom prst="line">
            <a:avLst/>
          </a:prstGeom>
          <a:ln w="25560">
            <a:solidFill>
              <a:srgbClr val="54547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29320" y="184464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ai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223040" y="2212920"/>
            <a:ext cx="965160" cy="295200"/>
          </a:xfrm>
          <a:prstGeom prst="rect">
            <a:avLst/>
          </a:prstGeom>
          <a:solidFill>
            <a:srgbClr val="def6fe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718400" y="2365200"/>
            <a:ext cx="0" cy="695520"/>
          </a:xfrm>
          <a:prstGeom prst="line">
            <a:avLst/>
          </a:prstGeom>
          <a:ln w="25560">
            <a:solidFill>
              <a:srgbClr val="54547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280360" y="3041640"/>
            <a:ext cx="333360" cy="485640"/>
          </a:xfrm>
          <a:prstGeom prst="line">
            <a:avLst/>
          </a:prstGeom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308320" y="3051000"/>
            <a:ext cx="2202840" cy="529560"/>
            <a:chOff x="2308320" y="3051000"/>
            <a:chExt cx="2202840" cy="529560"/>
          </a:xfrm>
        </p:grpSpPr>
        <p:sp>
          <p:nvSpPr>
            <p:cNvPr id="487" name=""/>
            <p:cNvSpPr/>
            <p:nvPr/>
          </p:nvSpPr>
          <p:spPr>
            <a:xfrm>
              <a:off x="4174920" y="3051000"/>
              <a:ext cx="336240" cy="495360"/>
            </a:xfrm>
            <a:prstGeom prst="rect">
              <a:avLst/>
            </a:prstGeom>
            <a:solidFill>
              <a:srgbClr val="def6f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174840" y="3051000"/>
              <a:ext cx="1002960" cy="495360"/>
            </a:xfrm>
            <a:prstGeom prst="rect">
              <a:avLst/>
            </a:prstGeom>
            <a:solidFill>
              <a:srgbClr val="fdfee2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03640" y="3060360"/>
              <a:ext cx="88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5472"/>
                  </a:solidFill>
                  <a:latin typeface="Times New Roman"/>
                </a:rPr>
                <a:t>Andy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5472"/>
                  </a:solidFill>
                  <a:latin typeface="Times New Roman"/>
                </a:rPr>
                <a:t>39 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841480" y="3051000"/>
              <a:ext cx="336240" cy="495360"/>
            </a:xfrm>
            <a:prstGeom prst="rect">
              <a:avLst/>
            </a:prstGeom>
            <a:solidFill>
              <a:srgbClr val="def6f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308320" y="3245760"/>
              <a:ext cx="552240" cy="324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2498760" y="3420720"/>
              <a:ext cx="475920" cy="648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4352760" y="3051000"/>
            <a:ext cx="2203560" cy="529560"/>
            <a:chOff x="4352760" y="3051000"/>
            <a:chExt cx="2203560" cy="529560"/>
          </a:xfrm>
        </p:grpSpPr>
        <p:sp>
          <p:nvSpPr>
            <p:cNvPr id="494" name=""/>
            <p:cNvSpPr/>
            <p:nvPr/>
          </p:nvSpPr>
          <p:spPr>
            <a:xfrm>
              <a:off x="6219720" y="3051000"/>
              <a:ext cx="336600" cy="495360"/>
            </a:xfrm>
            <a:prstGeom prst="rect">
              <a:avLst/>
            </a:prstGeom>
            <a:solidFill>
              <a:srgbClr val="def6f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19640" y="3051000"/>
              <a:ext cx="1003320" cy="495360"/>
            </a:xfrm>
            <a:prstGeom prst="rect">
              <a:avLst/>
            </a:prstGeom>
            <a:solidFill>
              <a:srgbClr val="fdfee2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48440" y="3060360"/>
              <a:ext cx="890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5472"/>
                  </a:solidFill>
                  <a:latin typeface="Times New Roman"/>
                </a:rPr>
                <a:t>Leon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5472"/>
                  </a:solidFill>
                  <a:latin typeface="Times New Roman"/>
                </a:rPr>
                <a:t>37 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86280" y="3051000"/>
              <a:ext cx="336600" cy="495360"/>
            </a:xfrm>
            <a:prstGeom prst="rect">
              <a:avLst/>
            </a:prstGeom>
            <a:solidFill>
              <a:srgbClr val="def6f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4352760" y="3245760"/>
              <a:ext cx="552600" cy="324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4543200" y="3420720"/>
              <a:ext cx="476280" cy="648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527-4E4D-4672-BB4A-5FA7409FCBD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oubly Linked List - DoublyNod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907920"/>
            <a:ext cx="88581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class DoublyNode {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Object dat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DoublyNode next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DoublyNode previou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DoublyNode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(Object o)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{ data=o; next=previous=null; 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DoublyNode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(Object o, DoublyNode nextNode,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DoublyNode previousNode)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{ data=o; next=nextNode;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previous=previousNode; 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Object </a:t>
            </a: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getData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() { return data; 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DoublyNode </a:t>
            </a: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getNext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() { return next; 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DoublyNode </a:t>
            </a: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getPrevious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() { return previous; 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39480" indent="-339480"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5D4-5CE8-4630-8682-1C68E363C6F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oubly Linked List - DoublyLL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907920"/>
            <a:ext cx="88581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class DoublyLL {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private DoublyNode head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private DoublyNode tai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public DoublyLL()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{ head=tail=null; 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public boolean isEmpty()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{ return head==null; 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AD8-A130-4C5D-B722-B153A388558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Implementation of Lis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2800" y="1301760"/>
            <a:ext cx="8089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Simple Arra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s is generally preferable whe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e records are individually very small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e size of the list is known when the program is written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ew insertions or deletions need to be made except at the end of the list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andom access is important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 rot="5400000">
            <a:off x="8784720" y="6032520"/>
            <a:ext cx="142920" cy="13644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0">
            <a:noFill/>
          </a:ln>
          <a:effectLst>
            <a:outerShdw dist="153753" dir="2700000" blurRad="0" rotWithShape="0">
              <a:srgbClr val="5454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5B4-67C8-446B-8BCA-809719BA12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oubly Linked List - ad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-476280" y="984240"/>
            <a:ext cx="88581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public void addToHead(Object item)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if (isEmpty()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head = tail = new DoublyNode(item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head = head.previous =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new DoublyNode(item, head, null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public void addToTail(Object item)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if (isEmpty()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head = tail = new DoublyNode(item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tail = tail.next =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new DoublyNode(item, null, tail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DD1F-46B5-4B7F-9F10-30986841F4C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oubly Linked List - removeFromHea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946080"/>
            <a:ext cx="88581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public Object removeFromHead() throws 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EmptyListException {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Object item = nul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if (isEmpty()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throw new EmptyListException(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item = head.dat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if (head == tail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head = tail = nul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head = head.next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head.previous = nul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return ite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EE2-2375-449D-8B40-23B997C7AB8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oubly Linked List - removeFromTail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946080"/>
            <a:ext cx="88581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public Object removeFromTail() throws 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EmptyListException {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Object item = nul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if (isEmpty()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throw new EmptyListException(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item = tail.dat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if (head == tail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head = tail = nul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tail = tail.previou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tail.next = nul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return ite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0F8E-173E-4570-B5E6-EA8E53FCB60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oubly Linked List - prin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946080"/>
            <a:ext cx="88581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public void print()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System.out.print("[ "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DoublyNode current = head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while (current != null) {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System.out.print(current.data + " "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current = current.next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System.out.print("]"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F891-10AB-4B17-87F2-4E62CDFE54D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oubly Linked List - printRevers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946080"/>
            <a:ext cx="88581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public void printReverse()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System.out.print("] "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DoublyNode current = </a:t>
            </a: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tail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while (current != null) {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System.out.print(current.data + " "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current = current.</a:t>
            </a:r>
            <a:r>
              <a:rPr b="1" i="1" lang="en-US" sz="2400" spc="-1" strike="noStrike">
                <a:solidFill>
                  <a:srgbClr val="545472"/>
                </a:solidFill>
                <a:latin typeface="Courier New"/>
              </a:rPr>
              <a:t>previous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System.out.print("["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087-F4DB-4C09-A941-FE21F6383E0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imply Linked Lis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74640" y="11743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Simply Linked Lis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s is generally preferable whe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e records are large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e size of the list is not known in advance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lexibility is needed in inserting, deleting, and rearranging the entries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>
              <a:lnSpc>
                <a:spcPct val="115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Because the running time for insertions and deletions is so slow and the list size must be known in advance, simple arrays are generally not used to implement lists.  Instead, </a:t>
            </a:r>
            <a:r>
              <a:rPr b="1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Sorted Linked List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will be used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0AF-0A8F-432E-BB9D-C44BED6E0F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Implementing linked list with Jav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5000"/>
              </a:lnSpc>
              <a:spcBef>
                <a:spcPts val="2401"/>
              </a:spcBef>
              <a:buClr>
                <a:srgbClr val="724063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 linked list is a linear collection of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self-referential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class objects, called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node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 connected by reference links – hence, the term "linked" list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>
              <a:lnSpc>
                <a:spcPct val="95000"/>
              </a:lnSpc>
              <a:spcBef>
                <a:spcPts val="2401"/>
              </a:spcBef>
              <a:buClr>
                <a:srgbClr val="724063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 linked list is accessed via a reference to the first node of the list.  Subsequent nodes are accessed via the link-reference member stored in each node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>
              <a:lnSpc>
                <a:spcPct val="95000"/>
              </a:lnSpc>
              <a:spcBef>
                <a:spcPts val="2401"/>
              </a:spcBef>
              <a:buClr>
                <a:srgbClr val="724063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By convention, the link reference in the last node of a list is set to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null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to mark the end of the list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>
              <a:lnSpc>
                <a:spcPct val="95000"/>
              </a:lnSpc>
              <a:spcBef>
                <a:spcPts val="2401"/>
              </a:spcBef>
              <a:buClr>
                <a:srgbClr val="724063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ata are stored in a linked list dynamically – each node is created as necessary.  A node can contain data of any type including objects of other classes.</a:t>
            </a:r>
            <a:br>
              <a:rPr sz="2400"/>
            </a:b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567-F9A0-45FB-A1C6-EB9F463697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iagram Convention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7400" y="4756320"/>
            <a:ext cx="7772400" cy="11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ointers (references) are generally depicted as arrows and structures as rectangular boxes.  If the pointer is null, we attach a diagonal to it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066680" y="1238400"/>
            <a:ext cx="965160" cy="914400"/>
            <a:chOff x="1066680" y="1238400"/>
            <a:chExt cx="965160" cy="914400"/>
          </a:xfrm>
        </p:grpSpPr>
        <p:sp>
          <p:nvSpPr>
            <p:cNvPr id="136" name=""/>
            <p:cNvSpPr/>
            <p:nvPr/>
          </p:nvSpPr>
          <p:spPr>
            <a:xfrm>
              <a:off x="1220400" y="123840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head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6680" y="1657440"/>
              <a:ext cx="965160" cy="495360"/>
            </a:xfrm>
            <a:prstGeom prst="rect">
              <a:avLst/>
            </a:prstGeom>
            <a:solidFill>
              <a:srgbClr val="def6f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066680" y="3009960"/>
            <a:ext cx="1927440" cy="533520"/>
            <a:chOff x="1066680" y="3009960"/>
            <a:chExt cx="1927440" cy="533520"/>
          </a:xfrm>
        </p:grpSpPr>
        <p:sp>
          <p:nvSpPr>
            <p:cNvPr id="139" name=""/>
            <p:cNvSpPr/>
            <p:nvPr/>
          </p:nvSpPr>
          <p:spPr>
            <a:xfrm flipV="1">
              <a:off x="1514520" y="3009960"/>
              <a:ext cx="9360" cy="53352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28960" y="3029040"/>
              <a:ext cx="965160" cy="495360"/>
            </a:xfrm>
            <a:prstGeom prst="rect">
              <a:avLst/>
            </a:prstGeom>
            <a:solidFill>
              <a:srgbClr val="def6f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66680" y="3029040"/>
              <a:ext cx="965160" cy="495360"/>
            </a:xfrm>
            <a:prstGeom prst="rect">
              <a:avLst/>
            </a:prstGeom>
            <a:solidFill>
              <a:srgbClr val="fdfee2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68280" y="3057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42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2467080" y="3257640"/>
            <a:ext cx="1199880" cy="9360"/>
          </a:xfrm>
          <a:prstGeom prst="line">
            <a:avLst/>
          </a:prstGeom>
          <a:ln w="25560">
            <a:solidFill>
              <a:srgbClr val="54547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52680" y="1895400"/>
            <a:ext cx="1440" cy="1114560"/>
          </a:xfrm>
          <a:prstGeom prst="line">
            <a:avLst/>
          </a:prstGeom>
          <a:ln w="25560">
            <a:solidFill>
              <a:srgbClr val="54547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676680" y="2971800"/>
            <a:ext cx="1927080" cy="533520"/>
            <a:chOff x="3676680" y="2971800"/>
            <a:chExt cx="1927080" cy="533520"/>
          </a:xfrm>
        </p:grpSpPr>
        <p:sp>
          <p:nvSpPr>
            <p:cNvPr id="146" name=""/>
            <p:cNvSpPr/>
            <p:nvPr/>
          </p:nvSpPr>
          <p:spPr>
            <a:xfrm flipV="1">
              <a:off x="4124160" y="2971800"/>
              <a:ext cx="9720" cy="53352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38600" y="2990880"/>
              <a:ext cx="965160" cy="495360"/>
            </a:xfrm>
            <a:prstGeom prst="rect">
              <a:avLst/>
            </a:prstGeom>
            <a:solidFill>
              <a:srgbClr val="def6f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76680" y="2990880"/>
              <a:ext cx="965160" cy="495360"/>
            </a:xfrm>
            <a:prstGeom prst="rect">
              <a:avLst/>
            </a:prstGeom>
            <a:solidFill>
              <a:srgbClr val="fdfee2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54600" y="301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V="1">
            <a:off x="5076720" y="3219480"/>
            <a:ext cx="1200240" cy="9360"/>
          </a:xfrm>
          <a:prstGeom prst="line">
            <a:avLst/>
          </a:prstGeom>
          <a:ln w="25560">
            <a:solidFill>
              <a:srgbClr val="54547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228360" y="2952720"/>
            <a:ext cx="1975680" cy="533520"/>
            <a:chOff x="6228360" y="2952720"/>
            <a:chExt cx="1975680" cy="533520"/>
          </a:xfrm>
        </p:grpSpPr>
        <p:sp>
          <p:nvSpPr>
            <p:cNvPr id="152" name=""/>
            <p:cNvSpPr/>
            <p:nvPr/>
          </p:nvSpPr>
          <p:spPr>
            <a:xfrm flipV="1">
              <a:off x="6724800" y="2952720"/>
              <a:ext cx="9360" cy="53352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38880" y="2971800"/>
              <a:ext cx="965160" cy="495360"/>
            </a:xfrm>
            <a:prstGeom prst="rect">
              <a:avLst/>
            </a:prstGeom>
            <a:solidFill>
              <a:srgbClr val="def6f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76960" y="2971800"/>
              <a:ext cx="965160" cy="495360"/>
            </a:xfrm>
            <a:prstGeom prst="rect">
              <a:avLst/>
            </a:prstGeom>
            <a:solidFill>
              <a:srgbClr val="fdfee2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28360" y="300024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"hello"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48600" y="2981160"/>
              <a:ext cx="904680" cy="45720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286680" y="3790800"/>
            <a:ext cx="812520" cy="324000"/>
          </a:xfrm>
          <a:prstGeom prst="rect">
            <a:avLst/>
          </a:prstGeom>
          <a:solidFill>
            <a:srgbClr val="def6fe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99920" y="373392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node referenc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86680" y="4210200"/>
            <a:ext cx="812520" cy="323640"/>
          </a:xfrm>
          <a:prstGeom prst="rect">
            <a:avLst/>
          </a:prstGeom>
          <a:solidFill>
            <a:srgbClr val="fdfee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01720" y="415296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node da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267600" y="1200240"/>
            <a:ext cx="965160" cy="1771560"/>
            <a:chOff x="6267600" y="1200240"/>
            <a:chExt cx="965160" cy="1771560"/>
          </a:xfrm>
        </p:grpSpPr>
        <p:sp>
          <p:nvSpPr>
            <p:cNvPr id="162" name=""/>
            <p:cNvSpPr/>
            <p:nvPr/>
          </p:nvSpPr>
          <p:spPr>
            <a:xfrm>
              <a:off x="6419520" y="120024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ai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67600" y="1619280"/>
              <a:ext cx="965160" cy="495360"/>
            </a:xfrm>
            <a:prstGeom prst="rect">
              <a:avLst/>
            </a:prstGeom>
            <a:solidFill>
              <a:srgbClr val="def6f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53240" y="1857240"/>
              <a:ext cx="0" cy="111456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0707-EA58-4323-9A9D-4FBAD89F7E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Java Code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4640" y="117468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class ListNode {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Object data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ListNode next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45472"/>
                </a:solidFill>
                <a:latin typeface="Courier New"/>
              </a:rPr>
              <a:t>ListNode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(Object o) { data=o; next=null; 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45472"/>
                </a:solidFill>
                <a:latin typeface="Courier New"/>
              </a:rPr>
              <a:t>ListNode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(Object o, ListNode nextNode)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{ data=o; next=nextNode; 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Object </a:t>
            </a:r>
            <a:r>
              <a:rPr b="1" i="1" lang="en-US" sz="2000" spc="-1" strike="noStrike">
                <a:solidFill>
                  <a:srgbClr val="545472"/>
                </a:solidFill>
                <a:latin typeface="Courier New"/>
              </a:rPr>
              <a:t>getData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() { return data; 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ListNode </a:t>
            </a:r>
            <a:r>
              <a:rPr b="1" i="1" lang="en-US" sz="2000" spc="-1" strike="noStrike">
                <a:solidFill>
                  <a:srgbClr val="545472"/>
                </a:solidFill>
                <a:latin typeface="Courier New"/>
              </a:rPr>
              <a:t>getNext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() { return next; 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class 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EmptyListException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extends RuntimeException {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public </a:t>
            </a:r>
            <a:r>
              <a:rPr b="1" i="1" lang="en-US" sz="2000" spc="-1" strike="noStrike">
                <a:solidFill>
                  <a:srgbClr val="545472"/>
                </a:solidFill>
                <a:latin typeface="Courier New"/>
              </a:rPr>
              <a:t>EmptyListException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(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{ super("List is empty"); 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E743-69CE-4600-A6F4-4EA8B450CA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Java Code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74280" y="1174320"/>
            <a:ext cx="811548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class LinkedList {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private ListNode head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private ListNode tail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545472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() { head=tail=null; 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public boolean </a:t>
            </a:r>
            <a:r>
              <a:rPr b="1" i="1" lang="en-US" sz="2000" spc="-1" strike="noStrike">
                <a:solidFill>
                  <a:srgbClr val="545472"/>
                </a:solidFill>
                <a:latin typeface="Courier New"/>
              </a:rPr>
              <a:t>isEmpty</a:t>
            </a: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() { return head==null; 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D45-3C70-409B-BDC5-0E6EE17D3F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62040" y="2160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lgorithm for addToHea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4640" y="4603320"/>
            <a:ext cx="77724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What happens if the list is empty?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Just set both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head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tail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to reference to the new node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23960" y="1638360"/>
            <a:ext cx="7137000" cy="2343240"/>
            <a:chOff x="723960" y="1638360"/>
            <a:chExt cx="7137000" cy="2343240"/>
          </a:xfrm>
        </p:grpSpPr>
        <p:grpSp>
          <p:nvGrpSpPr>
            <p:cNvPr id="172" name=""/>
            <p:cNvGrpSpPr/>
            <p:nvPr/>
          </p:nvGrpSpPr>
          <p:grpSpPr>
            <a:xfrm>
              <a:off x="723960" y="1676520"/>
              <a:ext cx="965160" cy="914400"/>
              <a:chOff x="723960" y="1676520"/>
              <a:chExt cx="965160" cy="914400"/>
            </a:xfrm>
          </p:grpSpPr>
          <p:sp>
            <p:nvSpPr>
              <p:cNvPr id="173" name=""/>
              <p:cNvSpPr/>
              <p:nvPr/>
            </p:nvSpPr>
            <p:spPr>
              <a:xfrm>
                <a:off x="877680" y="167652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head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23960" y="2095560"/>
                <a:ext cx="965160" cy="49536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723960" y="3448080"/>
              <a:ext cx="1926720" cy="533520"/>
              <a:chOff x="723960" y="3448080"/>
              <a:chExt cx="1926720" cy="533520"/>
            </a:xfrm>
          </p:grpSpPr>
          <p:sp>
            <p:nvSpPr>
              <p:cNvPr id="176" name=""/>
              <p:cNvSpPr/>
              <p:nvPr/>
            </p:nvSpPr>
            <p:spPr>
              <a:xfrm flipV="1">
                <a:off x="1171440" y="3448080"/>
                <a:ext cx="9000" cy="533520"/>
              </a:xfrm>
              <a:prstGeom prst="line">
                <a:avLst/>
              </a:prstGeom>
              <a:ln w="25560">
                <a:solidFill>
                  <a:srgbClr val="545472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685880" y="3467160"/>
                <a:ext cx="964800" cy="49536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23960" y="3467160"/>
                <a:ext cx="964800" cy="495360"/>
              </a:xfrm>
              <a:prstGeom prst="rect">
                <a:avLst/>
              </a:prstGeom>
              <a:solidFill>
                <a:srgbClr val="fdfee2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925200" y="34956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42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 flipV="1">
              <a:off x="2124000" y="3695760"/>
              <a:ext cx="1200240" cy="936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09600" y="2371680"/>
              <a:ext cx="1800" cy="107640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333600" y="3409920"/>
              <a:ext cx="1927080" cy="533520"/>
              <a:chOff x="3333600" y="3409920"/>
              <a:chExt cx="1927080" cy="533520"/>
            </a:xfrm>
          </p:grpSpPr>
          <p:sp>
            <p:nvSpPr>
              <p:cNvPr id="183" name=""/>
              <p:cNvSpPr/>
              <p:nvPr/>
            </p:nvSpPr>
            <p:spPr>
              <a:xfrm flipV="1">
                <a:off x="3781080" y="3409920"/>
                <a:ext cx="9720" cy="533520"/>
              </a:xfrm>
              <a:prstGeom prst="line">
                <a:avLst/>
              </a:prstGeom>
              <a:ln w="25560">
                <a:solidFill>
                  <a:srgbClr val="545472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295520" y="3429000"/>
                <a:ext cx="965160" cy="49536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33600" y="3429000"/>
                <a:ext cx="965160" cy="495360"/>
              </a:xfrm>
              <a:prstGeom prst="rect">
                <a:avLst/>
              </a:prstGeom>
              <a:solidFill>
                <a:srgbClr val="fdfee2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11520" y="3457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V="1">
              <a:off x="4734000" y="3657600"/>
              <a:ext cx="1200240" cy="936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5885280" y="3390840"/>
              <a:ext cx="1975680" cy="533520"/>
              <a:chOff x="5885280" y="3390840"/>
              <a:chExt cx="1975680" cy="533520"/>
            </a:xfrm>
          </p:grpSpPr>
          <p:sp>
            <p:nvSpPr>
              <p:cNvPr id="189" name=""/>
              <p:cNvSpPr/>
              <p:nvPr/>
            </p:nvSpPr>
            <p:spPr>
              <a:xfrm flipV="1">
                <a:off x="6381720" y="3390840"/>
                <a:ext cx="9360" cy="533520"/>
              </a:xfrm>
              <a:prstGeom prst="line">
                <a:avLst/>
              </a:prstGeom>
              <a:ln w="25560">
                <a:solidFill>
                  <a:srgbClr val="545472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95800" y="3409920"/>
                <a:ext cx="965160" cy="49536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33880" y="3409920"/>
                <a:ext cx="965160" cy="495360"/>
              </a:xfrm>
              <a:prstGeom prst="rect">
                <a:avLst/>
              </a:prstGeom>
              <a:solidFill>
                <a:srgbClr val="fdfee2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885280" y="3438360"/>
                <a:ext cx="104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"hello"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905520" y="3419280"/>
                <a:ext cx="904680" cy="457200"/>
              </a:xfrm>
              <a:prstGeom prst="line">
                <a:avLst/>
              </a:prstGeom>
              <a:ln w="255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924520" y="1638360"/>
              <a:ext cx="965160" cy="1771560"/>
              <a:chOff x="5924520" y="1638360"/>
              <a:chExt cx="965160" cy="1771560"/>
            </a:xfrm>
          </p:grpSpPr>
          <p:sp>
            <p:nvSpPr>
              <p:cNvPr id="195" name=""/>
              <p:cNvSpPr/>
              <p:nvPr/>
            </p:nvSpPr>
            <p:spPr>
              <a:xfrm>
                <a:off x="6076440" y="1638360"/>
                <a:ext cx="57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tail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924520" y="2057400"/>
                <a:ext cx="965160" cy="495360"/>
              </a:xfrm>
              <a:prstGeom prst="rect">
                <a:avLst/>
              </a:prstGeom>
              <a:solidFill>
                <a:srgbClr val="def6fe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10160" y="2295360"/>
                <a:ext cx="0" cy="1114560"/>
              </a:xfrm>
              <a:prstGeom prst="line">
                <a:avLst/>
              </a:prstGeom>
              <a:ln w="25560">
                <a:solidFill>
                  <a:srgbClr val="545472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2819520" y="2095560"/>
            <a:ext cx="1926720" cy="533520"/>
            <a:chOff x="2819520" y="2095560"/>
            <a:chExt cx="1926720" cy="533520"/>
          </a:xfrm>
        </p:grpSpPr>
        <p:sp>
          <p:nvSpPr>
            <p:cNvPr id="199" name=""/>
            <p:cNvSpPr/>
            <p:nvPr/>
          </p:nvSpPr>
          <p:spPr>
            <a:xfrm flipV="1">
              <a:off x="3267000" y="2095560"/>
              <a:ext cx="9000" cy="53352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81440" y="2114640"/>
              <a:ext cx="964800" cy="495360"/>
            </a:xfrm>
            <a:prstGeom prst="rect">
              <a:avLst/>
            </a:prstGeom>
            <a:solidFill>
              <a:srgbClr val="def6f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19520" y="2114640"/>
              <a:ext cx="964800" cy="495360"/>
            </a:xfrm>
            <a:prstGeom prst="rect">
              <a:avLst/>
            </a:prstGeom>
            <a:solidFill>
              <a:srgbClr val="fdfee2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20760" y="214308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23.1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287000" y="2428920"/>
            <a:ext cx="2932200" cy="981000"/>
            <a:chOff x="1287000" y="2428920"/>
            <a:chExt cx="2932200" cy="981000"/>
          </a:xfrm>
        </p:grpSpPr>
        <p:sp>
          <p:nvSpPr>
            <p:cNvPr id="204" name=""/>
            <p:cNvSpPr/>
            <p:nvPr/>
          </p:nvSpPr>
          <p:spPr>
            <a:xfrm flipH="1">
              <a:off x="1287000" y="2428920"/>
              <a:ext cx="2932200" cy="98100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45000" y="28386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d0701"/>
                  </a:solidFill>
                  <a:latin typeface="Wingdings 2"/>
                  <a:ea typeface="Wingdings 2"/>
                </a:rPr>
                <a:t>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961920" y="1981080"/>
            <a:ext cx="1849680" cy="1219680"/>
            <a:chOff x="961920" y="1981080"/>
            <a:chExt cx="1849680" cy="1219680"/>
          </a:xfrm>
        </p:grpSpPr>
        <p:sp>
          <p:nvSpPr>
            <p:cNvPr id="207" name=""/>
            <p:cNvSpPr/>
            <p:nvPr/>
          </p:nvSpPr>
          <p:spPr>
            <a:xfrm>
              <a:off x="1907640" y="198108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d0701"/>
                  </a:solidFill>
                  <a:latin typeface="Wingdings 2"/>
                  <a:ea typeface="Wingdings 2"/>
                </a:rPr>
                <a:t>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209600" y="2343240"/>
              <a:ext cx="1602000" cy="9360"/>
            </a:xfrm>
            <a:prstGeom prst="line">
              <a:avLst/>
            </a:prstGeom>
            <a:ln w="25560">
              <a:solidFill>
                <a:srgbClr val="54547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61920" y="261936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d0701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79600" y="1212840"/>
            <a:ext cx="77724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75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dd an item 23.1 to the beginning of the linked list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Object-Oriented Programming with Java--W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4822-7CCA-4FF6-A3EB-A4E5FA6BDD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2000 McGraw-Hi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0T05:33:37Z</dcterms:created>
  <dc:creator>Dr. Caffeine</dc:creator>
  <dc:description/>
  <dc:language>en-US</dc:language>
  <cp:lastModifiedBy>ICT_Nelson</cp:lastModifiedBy>
  <cp:lastPrinted>2000-11-03T06:49:46Z</cp:lastPrinted>
  <dcterms:modified xsi:type="dcterms:W3CDTF">2001-09-19T09:23:55Z</dcterms:modified>
  <cp:revision>68</cp:revision>
  <dc:subject/>
  <dc:title>Sample Title Comes Here</dc:title>
</cp:coreProperties>
</file>