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A0D-0840-4991-8276-AD1C04FE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4640" y="369576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447-7B64-438E-8CDA-0595734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732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60D-D3EB-42A8-B57E-8102FC21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264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028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464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264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028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886-55BF-4C5D-8C13-95C09F51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C112-3869-4C38-BE3F-12CF5D5F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D5B7-DDCB-4D83-B907-54854106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9C35-D73E-4D72-98FF-F15691FB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09DF-FEE8-4F58-9B94-7BA3A4C5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4807-E257-4AC0-AA41-F8344EAF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62040" y="216000"/>
            <a:ext cx="77724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193C-34B3-4A96-A1D8-B43F6D2C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0441-E71D-4746-B215-820F65D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729-50CD-49D8-867D-CB53DFB4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732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9B65-AEC3-4436-971C-F9FF30A1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C6E8-DEF8-4C64-8890-CE8FD272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4640" y="369576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CC3D-2990-4FBA-83F3-A4204FA3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732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FD22-D740-449D-BB14-1BB10E8C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0264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3028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7464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0264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3028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2AF2-D582-410C-8DCF-A8C7BEC6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491-47A8-4B6B-8EEE-1B2A378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77C-B986-4A65-95F4-B685ADEE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C86-B471-493B-BC84-06C44E5C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62040" y="216000"/>
            <a:ext cx="77724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0FE-779B-4DD6-BC04-518D9C1C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53E-143D-4CED-99FA-970FB28D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732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EE7-AD2C-47EE-8652-1DDDCB3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C88-AC59-43BB-8DEE-718D582C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83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545472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25280" y="6367320"/>
            <a:ext cx="360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545472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25760" y="6367320"/>
            <a:ext cx="14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4547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ahoma"/>
              </a:rPr>
              <a:t>Chapter 5 - </a:t>
            </a:r>
            <a:fld id="{91DA6BF1-F899-459F-AB23-9F4D35681A91}" type="slidenum">
              <a:rPr b="0" lang="en-US" sz="1000" spc="-1" strike="noStrike">
                <a:solidFill>
                  <a:srgbClr val="545472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882720"/>
            <a:ext cx="9169560" cy="137520"/>
            <a:chOff x="0" y="882720"/>
            <a:chExt cx="9169560" cy="137520"/>
          </a:xfrm>
        </p:grpSpPr>
        <p:sp>
          <p:nvSpPr>
            <p:cNvPr id="10" name=""/>
            <p:cNvSpPr/>
            <p:nvPr/>
          </p:nvSpPr>
          <p:spPr>
            <a:xfrm>
              <a:off x="6415200" y="906120"/>
              <a:ext cx="2754360" cy="11412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1760" y="891720"/>
              <a:ext cx="4214520" cy="9504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882720"/>
              <a:ext cx="3240000" cy="9792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317520"/>
            <a:ext cx="9156600" cy="757080"/>
            <a:chOff x="-12600" y="317520"/>
            <a:chExt cx="9156600" cy="757080"/>
          </a:xfrm>
        </p:grpSpPr>
        <p:sp>
          <p:nvSpPr>
            <p:cNvPr id="50" name=""/>
            <p:cNvSpPr/>
            <p:nvPr/>
          </p:nvSpPr>
          <p:spPr>
            <a:xfrm>
              <a:off x="-4680" y="317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12600" y="473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320" y="317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480" y="744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8840" y="317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2120" y="317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0" y="376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28880" y="317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71880" y="561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78400" y="455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1640" y="698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10280" y="831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11920" y="912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4960" y="741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70720" y="409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8840" y="547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30840" y="806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05400" y="779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0040" y="614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31120" y="612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74280" y="812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29760" y="698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73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35856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545472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2743200" y="6348240"/>
            <a:ext cx="37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54547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4547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Arial"/>
              </a:rPr>
              <a:t>Chapter 5 - </a:t>
            </a:r>
            <a:fld id="{DEFC6107-94E3-4708-8E3C-293461DD138E}" type="slidenum">
              <a:rPr b="0" lang="en-US" sz="10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1031760"/>
            <a:ext cx="9169560" cy="138240"/>
            <a:chOff x="0" y="1031760"/>
            <a:chExt cx="9169560" cy="138240"/>
          </a:xfrm>
        </p:grpSpPr>
        <p:sp>
          <p:nvSpPr>
            <p:cNvPr id="81" name=""/>
            <p:cNvSpPr/>
            <p:nvPr/>
          </p:nvSpPr>
          <p:spPr>
            <a:xfrm>
              <a:off x="6415200" y="105552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1760" y="104112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03176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9595ff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hyperlink" Target="file:///..%5C..%5Cjava/lang/Object.html" TargetMode="External"/><Relationship Id="rId6" Type="http://schemas.openxmlformats.org/officeDocument/2006/relationships/hyperlink" Target="file:///..%5C..%5Cjava/lang/Object.html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..%5C..%5Cjava/lang/Object.html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..%5C..%5Cjava/util/EmptyStackException.html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..%5C..%5Cjava/lang/Object.html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..%5C..%5Cjava/util/EmptyStackException.html" TargetMode="External"/><Relationship Id="rId6" Type="http://schemas.openxmlformats.org/officeDocument/2006/relationships/hyperlink" Target="file:///..%5C..%5Cjava/util/EmptyStackException.html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..%5C..%5Cjava/lang/Object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35856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upplementary Chapter 4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41240" y="3130560"/>
            <a:ext cx="76010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75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45472"/>
                </a:solidFill>
                <a:latin typeface="Tahoma"/>
              </a:rPr>
              <a:t>Stack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35F8-1198-49D1-91F5-CDC074FDBF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Java Implementat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hen a stack is first created, it contains no items.  The usual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s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op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perations are provided, as well as a method to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e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(named as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op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before) at the top item on the stack, a method to test for whether the stack is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empt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and a method to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earc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the stack for an item and discover how far it is from the top.  The details of the constructor and methods are described below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4DE-DE18-4CB4-A4E9-69740D74CD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onstructor and pus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4640" y="117432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tack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reates an empty Stack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Courier New"/>
                <a:hlinkClick r:id="rId5"/>
              </a:rPr>
              <a:t>Object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ush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Courier New"/>
                <a:hlinkClick r:id="rId6"/>
              </a:rPr>
              <a:t>Object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 item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ushes an item onto the top of this stack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Parameter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- the item to be pushed onto this stack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Return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rgumen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F31-2127-43AD-AFC1-67A1B84139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o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4640" y="117432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Courier New"/>
                <a:hlinkClick r:id="rId3"/>
              </a:rPr>
              <a:t>Object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op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moves the object at the top of this stack and returns that object as the value of this func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Return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object at the top of this stack (the last item of the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Vector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bject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hrow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EmptyStackExceptio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- if this stack is empty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4BA-927D-4E29-B39E-202DEACA96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ee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4640" y="117432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Courier New"/>
                <a:hlinkClick r:id="rId3"/>
              </a:rPr>
              <a:t>Object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eek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ooks at the object at the top of this stack without removing it from the stack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Return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object at the top of this stack (the last item of the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Vector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bject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hrow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		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EmptyStackExceptio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- if this stack is empty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A96-8844-4EB0-ADA4-BCEA79FF51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mpty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4640" y="117432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boolean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empty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ests if this stack is empty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Return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if and only if this stack contains no items;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therwis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53E-E712-4E4A-BB77-32681E87D2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ear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4640" y="117432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int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earch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Courier New"/>
                <a:hlinkClick r:id="rId3"/>
              </a:rPr>
              <a:t>Object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 o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the object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ccurs as an item in this stack, this method returns the distance from the top of the stack of the occurrence nearest the top of the stack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Parameter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831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- the desired objec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Return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831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position from the top of the stack where the object is located (the topmost item is considered to be at distance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1)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; the return value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-1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dicates that the object is not on the stack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08B-A997-4FA8-9EF0-3201FCA845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4640" y="117432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 stack can be implemenated in many way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herited from LinkedList. Use addToHead() and removeFromHead() as push and pop and disable addToTail() and removeFromTail().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 an array, say A, to store the data and use a "top" counter (initialised to -1) to point the the top elemen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ush(obj)  -  A[++top] = obj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p()  -  return A[top--]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7CC-8C9D-4A8A-AE75-85BFE28F13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pplication - Balancing Symbol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46040" y="1117440"/>
            <a:ext cx="81532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create an empty stack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while (we have not read the entire string) {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0844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read the next symbol of the string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0844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if the symbol is one of [ '(',  '[', or '{' ]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55196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push the symbol into the stack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0844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otherwise, if the symbol is one of [ ')', ']', or '}' ] then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55196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if stack is empty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55196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    </a:t>
            </a: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string is invalid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0844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     </a:t>
            </a: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otherwise,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55196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   </a:t>
            </a: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pop item from the stack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55196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   </a:t>
            </a: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if the item  is not the matching opener of the symbol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55196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       </a:t>
            </a: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string is invalid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if stack  is not empty at the end of execution, string is also invalid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75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2BF-DAD7-459F-BF09-A19DD3E7CF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pplication - Balancing Symbol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6040" y="1117440"/>
            <a:ext cx="81532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45472"/>
                </a:solidFill>
                <a:latin typeface="Tahoma"/>
              </a:rPr>
              <a:t>Exercise</a:t>
            </a:r>
            <a:r>
              <a:rPr b="0" lang="en-GB" sz="2400" spc="-1" strike="noStrike">
                <a:solidFill>
                  <a:srgbClr val="545472"/>
                </a:solidFill>
                <a:latin typeface="Tahoma"/>
              </a:rPr>
              <a:t> - Trace the above algorithm for each of the following expression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[(2+3)*4-2]+6/{[3-4]*4(2-1)}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[2+3]*4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[2+3)*4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d)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{{{2+3}*4}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e)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2+3)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497-F6F2-488D-8085-AF060EBA8F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9520" y="216000"/>
            <a:ext cx="849636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pplication - Evaluating a Postfix Express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88884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create an integer stack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while (not end of input) 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read next character into symbo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if (symbol is a digit)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Push the integer value of symb into stack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else 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Pop an integer out as operand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Pop an integer out as operand1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switch(symbol) 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case '+': calculate operand1 + operand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case '-': calculate operand1 - operand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case '*': calculate operand1 * operand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case '/': calculate operand1 / operand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}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Push the calculated value into the stack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} /* end while */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545472"/>
                </a:solidFill>
                <a:latin typeface="Tahoma"/>
              </a:rPr>
              <a:t>Pop out the result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977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234-B00F-4309-845B-00E0C876D4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efinition of Stack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2800" y="1301760"/>
            <a:ext cx="808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 stack of elements of type T is a finite sequence of elements of T together with the opera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itialize the stack to be empty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termine whether the stack is empty or no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termine whether the stack is full or no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the stack is not full, then insert a new node at one end of the stack, called its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op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the stack is not empty, then retrieve and delete the node at its to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 rot="5400000">
            <a:off x="8784720" y="6032520"/>
            <a:ext cx="142920" cy="136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5454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206-6B58-452C-A9DC-AA72CCBA05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9520" y="216000"/>
            <a:ext cx="849636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Application - Converting Infix Expressions to Postfi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0040" y="1079280"/>
            <a:ext cx="77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o evaluate a complex infix expression, a compiler would first convert the expression to postfix notation, and then evaluate the postfix version of the expression. 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.g. 2+3*4 becomes 2 3 4 * +, while 2 * 3 + 4 becomes 2 3 * 4 +.  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n algorithm for creating a postfix expression is as follow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EEB-B417-422E-B0EF-CA81E086E8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99520" y="216000"/>
            <a:ext cx="849636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Application - Converting Infix Expressions to Postfi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5120" y="1079280"/>
            <a:ext cx="805032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create an integer stack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while (not end of input)  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read next character into symbo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f (symbol is a digit)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Print symbo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else if symbol is ‘(‘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Push symbol to stack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else if symbol is ‘)’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Pop operators from the top of the stack and print them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until a ‘(‘ is poppe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else /* symbol  is an operator */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CF2-FBB6-4D92-B596-1D4D73F672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9520" y="216000"/>
            <a:ext cx="849636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Application - Converting Infix Expressions to Postfi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5120" y="1079280"/>
            <a:ext cx="805032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Pop operators (if there are any) at the top of the stack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while they have equal or higher precedence than t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current operator, and print the popped operato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Push symbol to stack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} /* end else */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} /* end while */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As long as stack is empty, pop operators from the top of the   stack and print them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610-E9F9-434E-9368-1B6CB6BC5A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llustration of Stack Oper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2800" y="1301760"/>
            <a:ext cx="808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ush 8627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 rot="5400000">
            <a:off x="8784720" y="6032520"/>
            <a:ext cx="142920" cy="136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5454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01000" y="2400480"/>
            <a:ext cx="2016360" cy="2917080"/>
            <a:chOff x="801000" y="2400480"/>
            <a:chExt cx="2016360" cy="2917080"/>
          </a:xfrm>
        </p:grpSpPr>
        <p:sp>
          <p:nvSpPr>
            <p:cNvPr id="130" name=""/>
            <p:cNvSpPr/>
            <p:nvPr/>
          </p:nvSpPr>
          <p:spPr>
            <a:xfrm>
              <a:off x="2027160" y="247644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1253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27160" y="295272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2783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7160" y="438156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8991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27160" y="342900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5129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27160" y="390528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0268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27160" y="485784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4420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2685960"/>
              <a:ext cx="552600" cy="0"/>
            </a:xfrm>
            <a:prstGeom prst="line">
              <a:avLst/>
            </a:prstGeom>
            <a:ln w="2844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1000" y="240048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80e2e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08800" y="2514600"/>
            <a:ext cx="790200" cy="2841120"/>
            <a:chOff x="5608800" y="2514600"/>
            <a:chExt cx="790200" cy="2841120"/>
          </a:xfrm>
        </p:grpSpPr>
        <p:sp>
          <p:nvSpPr>
            <p:cNvPr id="139" name=""/>
            <p:cNvSpPr/>
            <p:nvPr/>
          </p:nvSpPr>
          <p:spPr>
            <a:xfrm>
              <a:off x="5608800" y="251460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1253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08800" y="299088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2783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08800" y="441972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8991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8800" y="346716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5129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08800" y="394344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0268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08800" y="489600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4420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477680" y="1990800"/>
            <a:ext cx="1123200" cy="459720"/>
            <a:chOff x="4477680" y="1990800"/>
            <a:chExt cx="1123200" cy="459720"/>
          </a:xfrm>
        </p:grpSpPr>
        <p:sp>
          <p:nvSpPr>
            <p:cNvPr id="146" name=""/>
            <p:cNvSpPr/>
            <p:nvPr/>
          </p:nvSpPr>
          <p:spPr>
            <a:xfrm>
              <a:off x="5048280" y="2276640"/>
              <a:ext cx="552600" cy="0"/>
            </a:xfrm>
            <a:prstGeom prst="line">
              <a:avLst/>
            </a:prstGeom>
            <a:ln w="2844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77680" y="199080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80e2e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608800" y="2038320"/>
            <a:ext cx="790200" cy="45972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862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13880" y="1523880"/>
            <a:ext cx="1694160" cy="723960"/>
            <a:chOff x="2513880" y="1523880"/>
            <a:chExt cx="1694160" cy="723960"/>
          </a:xfrm>
        </p:grpSpPr>
        <p:sp>
          <p:nvSpPr>
            <p:cNvPr id="150" name=""/>
            <p:cNvSpPr/>
            <p:nvPr/>
          </p:nvSpPr>
          <p:spPr>
            <a:xfrm flipH="1" rot="16200000">
              <a:off x="2703960" y="1581120"/>
              <a:ext cx="476280" cy="857160"/>
            </a:xfrm>
            <a:custGeom>
              <a:avLst/>
              <a:gdLst/>
              <a:ahLst/>
              <a:rect l="l" t="t" r="r" b="b"/>
              <a:pathLst>
                <a:path w="600" h="804">
                  <a:moveTo>
                    <a:pt x="0" y="804"/>
                  </a:moveTo>
                  <a:cubicBezTo>
                    <a:pt x="7" y="667"/>
                    <a:pt x="14" y="530"/>
                    <a:pt x="60" y="420"/>
                  </a:cubicBezTo>
                  <a:cubicBezTo>
                    <a:pt x="106" y="310"/>
                    <a:pt x="186" y="214"/>
                    <a:pt x="276" y="144"/>
                  </a:cubicBezTo>
                  <a:cubicBezTo>
                    <a:pt x="366" y="74"/>
                    <a:pt x="483" y="37"/>
                    <a:pt x="600" y="0"/>
                  </a:cubicBezTo>
                </a:path>
              </a:pathLst>
            </a:custGeom>
            <a:noFill/>
            <a:ln w="2844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7840" y="152388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8627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88D-FD47-4D02-9CB1-DC7377E9A3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llustration of Stack Oper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12800" y="1301760"/>
            <a:ext cx="808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 rot="5400000">
            <a:off x="8784720" y="6032520"/>
            <a:ext cx="142920" cy="136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5454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1000" y="2400480"/>
            <a:ext cx="2016360" cy="2917080"/>
            <a:chOff x="801000" y="2400480"/>
            <a:chExt cx="2016360" cy="2917080"/>
          </a:xfrm>
        </p:grpSpPr>
        <p:sp>
          <p:nvSpPr>
            <p:cNvPr id="156" name=""/>
            <p:cNvSpPr/>
            <p:nvPr/>
          </p:nvSpPr>
          <p:spPr>
            <a:xfrm>
              <a:off x="2027160" y="247644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1253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27160" y="295272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2783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27160" y="438156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8991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27160" y="342900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5129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27160" y="390528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0268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27160" y="485784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4420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85960"/>
              <a:ext cx="552600" cy="0"/>
            </a:xfrm>
            <a:prstGeom prst="line">
              <a:avLst/>
            </a:prstGeom>
            <a:ln w="2844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1000" y="240048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80e2e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515480" y="2924280"/>
            <a:ext cx="1883520" cy="2431440"/>
            <a:chOff x="4515480" y="2924280"/>
            <a:chExt cx="1883520" cy="2431440"/>
          </a:xfrm>
        </p:grpSpPr>
        <p:grpSp>
          <p:nvGrpSpPr>
            <p:cNvPr id="165" name=""/>
            <p:cNvGrpSpPr/>
            <p:nvPr/>
          </p:nvGrpSpPr>
          <p:grpSpPr>
            <a:xfrm>
              <a:off x="5608800" y="2990880"/>
              <a:ext cx="790200" cy="2364840"/>
              <a:chOff x="5608800" y="2990880"/>
              <a:chExt cx="790200" cy="2364840"/>
            </a:xfrm>
          </p:grpSpPr>
          <p:sp>
            <p:nvSpPr>
              <p:cNvPr id="166" name=""/>
              <p:cNvSpPr/>
              <p:nvPr/>
            </p:nvSpPr>
            <p:spPr>
              <a:xfrm>
                <a:off x="5608800" y="2990880"/>
                <a:ext cx="790200" cy="459720"/>
              </a:xfrm>
              <a:prstGeom prst="rect">
                <a:avLst/>
              </a:prstGeom>
              <a:noFill/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2783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08800" y="4419720"/>
                <a:ext cx="790200" cy="459720"/>
              </a:xfrm>
              <a:prstGeom prst="rect">
                <a:avLst/>
              </a:prstGeom>
              <a:noFill/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8991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08800" y="3467160"/>
                <a:ext cx="790200" cy="459720"/>
              </a:xfrm>
              <a:prstGeom prst="rect">
                <a:avLst/>
              </a:prstGeom>
              <a:noFill/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5129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08800" y="3943440"/>
                <a:ext cx="790200" cy="459720"/>
              </a:xfrm>
              <a:prstGeom prst="rect">
                <a:avLst/>
              </a:prstGeom>
              <a:noFill/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0268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08800" y="4896000"/>
                <a:ext cx="790200" cy="459720"/>
              </a:xfrm>
              <a:prstGeom prst="rect">
                <a:avLst/>
              </a:prstGeom>
              <a:noFill/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4420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515480" y="2924280"/>
              <a:ext cx="1122840" cy="459720"/>
              <a:chOff x="4515480" y="2924280"/>
              <a:chExt cx="1122840" cy="459720"/>
            </a:xfrm>
          </p:grpSpPr>
          <p:sp>
            <p:nvSpPr>
              <p:cNvPr id="172" name=""/>
              <p:cNvSpPr/>
              <p:nvPr/>
            </p:nvSpPr>
            <p:spPr>
              <a:xfrm>
                <a:off x="5086080" y="3210120"/>
                <a:ext cx="552240" cy="0"/>
              </a:xfrm>
              <a:prstGeom prst="line">
                <a:avLst/>
              </a:prstGeom>
              <a:ln w="28440">
                <a:solidFill>
                  <a:srgbClr val="545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15480" y="2924280"/>
                <a:ext cx="57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80e2e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2457360" y="1581120"/>
            <a:ext cx="1807920" cy="762120"/>
            <a:chOff x="2457360" y="1581120"/>
            <a:chExt cx="1807920" cy="762120"/>
          </a:xfrm>
        </p:grpSpPr>
        <p:sp>
          <p:nvSpPr>
            <p:cNvPr id="175" name=""/>
            <p:cNvSpPr/>
            <p:nvPr/>
          </p:nvSpPr>
          <p:spPr>
            <a:xfrm>
              <a:off x="2457360" y="1790640"/>
              <a:ext cx="895680" cy="552600"/>
            </a:xfrm>
            <a:custGeom>
              <a:avLst/>
              <a:gdLst/>
              <a:ahLst/>
              <a:rect l="l" t="t" r="r" b="b"/>
              <a:pathLst>
                <a:path w="600" h="804">
                  <a:moveTo>
                    <a:pt x="0" y="804"/>
                  </a:moveTo>
                  <a:cubicBezTo>
                    <a:pt x="7" y="667"/>
                    <a:pt x="14" y="530"/>
                    <a:pt x="60" y="420"/>
                  </a:cubicBezTo>
                  <a:cubicBezTo>
                    <a:pt x="106" y="310"/>
                    <a:pt x="186" y="214"/>
                    <a:pt x="276" y="144"/>
                  </a:cubicBezTo>
                  <a:cubicBezTo>
                    <a:pt x="366" y="74"/>
                    <a:pt x="483" y="37"/>
                    <a:pt x="600" y="0"/>
                  </a:cubicBezTo>
                </a:path>
              </a:pathLst>
            </a:custGeom>
            <a:noFill/>
            <a:ln w="2844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75080" y="1581120"/>
              <a:ext cx="790200" cy="459720"/>
            </a:xfrm>
            <a:prstGeom prst="rect">
              <a:avLst/>
            </a:prstGeom>
            <a:noFill/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1253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14D-7714-4776-BAF2-B0AADEF8C1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tack Oper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4640" y="11743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177156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itializ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itialize a stack as empty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177156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sEmpty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turn true if the stack is empty, fals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therwis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177156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sFull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the stack is full, return true,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therwise, return false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177156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us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value of X is placed on the top of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stack if it is not full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177156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p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value at the top of the stack i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moved, its value is returned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177156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op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value at the top of the stack i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s returned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177156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177156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309-484D-4854-B164-13C0899796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pplications of Stack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Storage of containers stacked one by on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289440" indent="-1112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Containers are always put on the top and only the top one can be unloaded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33560" indent="-13356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CG Times (W1)"/>
              </a:rPr>
              <a:t>Reversing a line</a:t>
            </a: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 : We want to make a function that will read a line of input and will then write it out backward.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289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create the stack to be empty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289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while (stack is not full) and (not end of input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445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Push each item onto the stack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289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while (stack is not empty) {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445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Pop an item from the stack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445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print out the item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289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545472"/>
                </a:solidFill>
                <a:latin typeface="CG Times (W1)"/>
              </a:rPr>
              <a:t>}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133560" indent="0" algn="just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3356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33560" indent="-13356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545472"/>
                </a:solidFill>
                <a:uFillTx/>
                <a:latin typeface="CG Times (W1)"/>
              </a:rPr>
              <a:t>Balancing Symbol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33560" indent="-133560" algn="just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CG Times (W1)"/>
              </a:rPr>
              <a:t>Compilers check your programs for syntax error, but frequently a lack of one symbol (such as a missing { or }) may cause the compiler to spill out a hundred lines of diagnostics without identifying the real error.  A useful tools in this situation is a program that checks whether the symbols (),[], {} are balanced.  The following algorithm uses a stack to check the matching of these symbol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623880" indent="-8892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545472"/>
                </a:solidFill>
                <a:latin typeface="CG Times (W1)"/>
              </a:rPr>
              <a:t>create an empty stack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623880" indent="-8892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545472"/>
                </a:solidFill>
                <a:latin typeface="CG Times (W1)"/>
              </a:rPr>
              <a:t>while (we have not read the entire string) {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read the next symbol of the string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if the symbol is one of [ '(',  '[', or '{' ]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push the symbol into the stack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otherwise, if the symbol is one of [ ')', ']', or '}' ] then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if stack is empty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    </a:t>
            </a: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string is invalid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     </a:t>
            </a: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otherwise,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   </a:t>
            </a: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pop item from the stack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   </a:t>
            </a: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if the item  is not the matching opener of the symbol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4" marL="802080" indent="-8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       </a:t>
            </a:r>
            <a:r>
              <a:rPr b="0" i="1" lang="en-GB" sz="1600" spc="-1" strike="noStrike">
                <a:solidFill>
                  <a:srgbClr val="545472"/>
                </a:solidFill>
                <a:latin typeface="CG Times (W1)"/>
              </a:rPr>
              <a:t>string is invalid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3" marL="623880" indent="-8892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545472"/>
                </a:solidFill>
                <a:latin typeface="CG Times (W1)"/>
              </a:rPr>
              <a:t>if stack  is not empty at the end of execution, string is also inval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DBA-1349-4B07-A0E0-F0C246F440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Balancing Symbol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CG Times (W1)"/>
              </a:rPr>
              <a:t>Compilers check your programs for syntax error, but frequently a lack of one symbol (such as a missing { or }) may cause the compiler to spill out a hundred lines of diagnostics without identifying the real error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CG Times (W1)"/>
              </a:rPr>
              <a:t>A useful tools in this situation is a program that checks whether the symbols (),[], {} are balanced.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C10-4165-464C-BF98-5F1BE9905F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valuating a Postfix Express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4280" y="1174680"/>
            <a:ext cx="81154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Stacks are used by compilers to help in the process of evaluating expressions and generating machine language code.  Humans generally write expressions with the operators between the operands, as in 2 * 3 + 4.  This notation is called </a:t>
            </a:r>
            <a:r>
              <a:rPr b="1" i="1" lang="en-US" sz="2400" spc="-1" strike="noStrike">
                <a:solidFill>
                  <a:srgbClr val="545472"/>
                </a:solidFill>
                <a:latin typeface="CG Times (W1)"/>
              </a:rPr>
              <a:t>infix</a:t>
            </a: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 notation.  However, it has the disadvantage that brackets are sometimes required.  Computers "prefer" postfix notation in which the operators are put either before or after their operands: the corresponding notations are called </a:t>
            </a:r>
            <a:r>
              <a:rPr b="1" i="1" lang="en-US" sz="2400" spc="-1" strike="noStrike">
                <a:solidFill>
                  <a:srgbClr val="545472"/>
                </a:solidFill>
                <a:latin typeface="CG Times (W1)"/>
              </a:rPr>
              <a:t>prefix</a:t>
            </a: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 (+ * 2 3 4) and </a:t>
            </a:r>
            <a:r>
              <a:rPr b="1" i="1" lang="en-US" sz="2400" spc="-1" strike="noStrike">
                <a:solidFill>
                  <a:srgbClr val="545472"/>
                </a:solidFill>
                <a:latin typeface="CG Times (W1)"/>
              </a:rPr>
              <a:t>postfix</a:t>
            </a: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 (2 3 * 4 +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To evaluate a postfix expression such as 2 3 * 4 +, we stack the operands, then for each operator, two operands are popped out from the stack and the result pushed onto the stack.  Thus, 2 and 3 will be pushed onto the stack first.  When * is encountered, they are taken out and 2*3=6 is pushed onto the stack.  Then, 4 is also pushed onto the stack.  When + is encountered, 6 and 4 are popped out to compute 6+4=10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DBC-808C-4F85-A864-F47D06B457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Java Implementat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Stac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class represents a last-in-first-out (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LIF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stack of objects. It </a:t>
            </a: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extend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class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Vector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th five operations that allow a vector to be treated as a stack.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Vector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class implements a growable array of objects.  Like an array, it contains components that can be accessed using an integer index.  However, the size of a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Vector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can grow or shrink as needed to accommodate adding and removing items after the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Vector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has been created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632-D6D4-4746-A483-2BDDD4C8E1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05:33:37Z</dcterms:created>
  <dc:creator>Dr. Caffeine</dc:creator>
  <dc:description/>
  <dc:language>en-US</dc:language>
  <cp:lastModifiedBy>ICT_Nelson</cp:lastModifiedBy>
  <cp:lastPrinted>2000-11-03T06:49:46Z</cp:lastPrinted>
  <dcterms:modified xsi:type="dcterms:W3CDTF">2001-09-19T09:24:06Z</dcterms:modified>
  <cp:revision>80</cp:revision>
  <dc:subject/>
  <dc:title>Sample Title Comes Here</dc:title>
</cp:coreProperties>
</file>